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8.gif" ContentType="image/gif"/>
  <Override PartName="/ppt/media/image6.gif" ContentType="image/gif"/>
  <Override PartName="/ppt/media/image5.jpeg" ContentType="image/jpeg"/>
  <Override PartName="/ppt/media/image7.gif" ContentType="image/gif"/>
  <Override PartName="/ppt/media/image9.gif" ContentType="image/gif"/>
  <Override PartName="/ppt/media/image4.jpeg" ContentType="image/jpeg"/>
  <Override PartName="/ppt/media/image10.wmf" ContentType="image/x-wmf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5AF8-DC6A-443D-8C2A-FCEED6461D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5EBC-DE45-427F-B208-09309467111C}" type="slidenum"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DE48-AC15-428C-8ED7-04E589DD2E8D}" type="slidenum"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A39-0652-404C-9656-6BABD22E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B1D-B345-4FC9-AFAC-DB413652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3D0-72A6-403E-8FF7-7B0F989C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883-849E-481A-84CE-B0805A01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CF9E-5ABA-474E-B1A4-B7C96C77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F353-3412-4575-8A21-B929707A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192E-1C72-4E96-99E7-7A0F09C3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1129-3BA7-4D5C-9F56-13AB0834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8B20-A563-4493-B2BB-4521E1C3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7F88-13AC-486D-9A79-7B33209F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9F4B-B360-4263-B0F2-8C37B47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6BE-54FA-431C-AE97-842B69E5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E80F-AFC2-4ED7-985E-79068C96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655E-E6C9-436F-A5C8-130D09BE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1D40-846C-45D5-BC07-34E440EF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6D6E-749D-4E69-9E54-05001961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1C7B-F877-4CF1-BAA1-483FEBA3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7C7-2ED0-42C2-BA45-C2AA33DE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E73-6435-4A41-8C62-BCD07F7B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ADD-27DB-4FAC-B237-E4153006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865-C6EB-4095-AA39-A36E0D12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044-8815-4CC1-8016-A5767FEE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FA6-CFD0-4F5D-A584-669E3F54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2A9-3F4D-467D-AD16-303E752E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0A58-E257-45F8-93D0-D6B65CCC6C18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1320-0829-40DB-9CE2-50FE454A7FDD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es.wikipedia.org/wiki/2008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1403280" y="1197000"/>
            <a:ext cx="748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TRABAJO DE ORGANIZACIÓN Y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 </a:t>
            </a: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DIRECCCIÓN DE EMPRESA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4643280" y="5661000"/>
            <a:ext cx="387540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Manuel Prados Blasco</a:t>
            </a:r>
            <a:endParaRPr b="1" lang="en-US" sz="2400" spc="1" strike="noStrike">
              <a:ln w="93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ahoma"/>
              </a:rPr>
              <a:t>Lourdes Bellido Agüera</a:t>
            </a:r>
            <a:endParaRPr b="1" lang="en-US" sz="2400" spc="1" strike="noStrike">
              <a:ln w="93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755640" y="2781360"/>
            <a:ext cx="7632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Instituto de Oftalmología "La Arruzafa"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Hospital "La Arruzafa"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924360" y="1484280"/>
            <a:ext cx="295272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2 CuadroTexto"/>
          <p:cNvSpPr/>
          <p:nvPr/>
        </p:nvSpPr>
        <p:spPr>
          <a:xfrm>
            <a:off x="1546200" y="1413000"/>
            <a:ext cx="6986520" cy="4788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ÍTULO DEL PUESTO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Auxiliar administrativ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RESPONSABILIDAD PERSONAL ANTE: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dministración, Subdirección, Gerencia y Direcc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IRECTAMENTE SUBORDINADA: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No tiene a nadie subordinad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FUNCIÓN ESPECÍFICA: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u misión principal es la facturación de intervenciones quirúrgic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CTIVIDADES: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Facturación y pag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RELACIONES INTERNAS Y EXTERNAS: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l auxiliar administrativo tiene relaciones externas citas médicas, proveedores y acreedores. Colabora con sus compañeros de departament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SPECTOS MÁS DUROS Y SATISFACTORIOS: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omo aspectos más duros podríamos nombrar la rutina de trabajo ya que se realiza a través de un sistema informático de contabilidad. Como aspectos más satisfactorios podríamos nombrar el buen ambiente de la clínic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WordArt 206"/>
          <p:cNvSpPr txBox="1"/>
          <p:nvPr/>
        </p:nvSpPr>
        <p:spPr>
          <a:xfrm>
            <a:off x="1547640" y="260280"/>
            <a:ext cx="6694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780000" y="1484280"/>
            <a:ext cx="10810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2 CuadroTexto"/>
          <p:cNvSpPr/>
          <p:nvPr/>
        </p:nvSpPr>
        <p:spPr>
          <a:xfrm>
            <a:off x="1547640" y="1414440"/>
            <a:ext cx="7417080" cy="453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TÍTULO DEL PUESTO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Geren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RESPONSABILIDAD PERSONAL ANTE: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 Es el máximo responsable del funcionamiento del hospital y la clínica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UNIDAD DIRECTAMENTE SUBORDINADA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la subdirección, la administración y mantenimiento y todos los puestos que se encuentren a cargo de ést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FUNCIÓN ESPECÍFICA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Su misión principal es dirigir tanto al hospital como la clínica, supervisar la facturación y los gastos que se realizan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ACTIVIDADES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Supervisar las contrataciones que se realicen, controlar los gastos, estudiar posibles mejoras de los servicios que prestan, representar a la empresa en reuniones y congresos, etc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RELACIONES INTERNAS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Se relaciona con el director médico, con el consejo de administración y con las coordinadores del hospital y de la clínica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ASPECTOS MÁS DUROS Y SATISFACTORIOS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Lo más satisfactorio es tener a los trabajadores contentos, el buen funcionamiento de la clínica, que no haya complicaciones. Los aspectos más duros son tomar algunas decisiones difíciles, como prescindir de los servicios de algún trabajador; requiere mucha dedicación que a su vez puede ser un aspectos satisfactorio, si como en su caso, te gusta la labor que estás desempeñando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WordArt 206"/>
          <p:cNvSpPr txBox="1"/>
          <p:nvPr/>
        </p:nvSpPr>
        <p:spPr>
          <a:xfrm>
            <a:off x="1835280" y="260280"/>
            <a:ext cx="6694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5 CuadroTexto"/>
          <p:cNvSpPr/>
          <p:nvPr/>
        </p:nvSpPr>
        <p:spPr>
          <a:xfrm>
            <a:off x="1357200" y="1341360"/>
            <a:ext cx="7391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ULTURA  DIONISIO (O DE MERCADO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os médicos del Hospital se sienten identificados con su profesión pero no con la organización en sí; es decir, los objetivos personales se anteponen a los de la organizac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ara ellos, la organización es un medio para lograr objetivos profesional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xiste una amplia difusión de la información y los médicos y trabajadores rechazan los control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xiste una estandarización de los valores cuando en la organización se adoptan unos valores comunes a los cuales se adhieren todos sus miembros ya que así proporcionan numerosas ventajas organizativas. Estos valores se adquieren de manera informa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WordArt 206"/>
          <p:cNvSpPr txBox="1"/>
          <p:nvPr/>
        </p:nvSpPr>
        <p:spPr>
          <a:xfrm>
            <a:off x="1403280" y="549360"/>
            <a:ext cx="633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SUBSISTEMA CULTURAL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1413000"/>
            <a:ext cx="1835280" cy="51116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25 Elipse"/>
          <p:cNvSpPr/>
          <p:nvPr/>
        </p:nvSpPr>
        <p:spPr>
          <a:xfrm>
            <a:off x="7093080" y="189000"/>
            <a:ext cx="1008000" cy="576000"/>
          </a:xfrm>
          <a:prstGeom prst="ellipse">
            <a:avLst/>
          </a:prstGeom>
          <a:gradFill rotWithShape="0">
            <a:gsLst>
              <a:gs pos="0">
                <a:srgbClr val="5e6fd4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24 Elipse"/>
          <p:cNvSpPr/>
          <p:nvPr/>
        </p:nvSpPr>
        <p:spPr>
          <a:xfrm>
            <a:off x="3780000" y="765000"/>
            <a:ext cx="863280" cy="505080"/>
          </a:xfrm>
          <a:prstGeom prst="ellipse">
            <a:avLst/>
          </a:prstGeom>
          <a:gradFill rotWithShape="0">
            <a:gsLst>
              <a:gs pos="0">
                <a:srgbClr val="5e6fd4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23 Elipse"/>
          <p:cNvSpPr/>
          <p:nvPr/>
        </p:nvSpPr>
        <p:spPr>
          <a:xfrm>
            <a:off x="2987640" y="73080"/>
            <a:ext cx="2521080" cy="4762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Oval 40"/>
          <p:cNvSpPr/>
          <p:nvPr/>
        </p:nvSpPr>
        <p:spPr>
          <a:xfrm>
            <a:off x="3564000" y="1413000"/>
            <a:ext cx="1512720" cy="57600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Oval 115"/>
          <p:cNvSpPr/>
          <p:nvPr/>
        </p:nvSpPr>
        <p:spPr>
          <a:xfrm>
            <a:off x="4643280" y="6165720"/>
            <a:ext cx="1584360" cy="50328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Oval 175"/>
          <p:cNvSpPr/>
          <p:nvPr/>
        </p:nvSpPr>
        <p:spPr>
          <a:xfrm>
            <a:off x="7164360" y="6165720"/>
            <a:ext cx="1511280" cy="45900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Oval 32"/>
          <p:cNvSpPr/>
          <p:nvPr/>
        </p:nvSpPr>
        <p:spPr>
          <a:xfrm>
            <a:off x="250920" y="6021360"/>
            <a:ext cx="1728720" cy="45864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Oval 25"/>
          <p:cNvSpPr/>
          <p:nvPr/>
        </p:nvSpPr>
        <p:spPr>
          <a:xfrm>
            <a:off x="468360" y="2852640"/>
            <a:ext cx="1655640" cy="50508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33 Rectángulo"/>
          <p:cNvSpPr/>
          <p:nvPr/>
        </p:nvSpPr>
        <p:spPr>
          <a:xfrm>
            <a:off x="2411280" y="4365720"/>
            <a:ext cx="1656000" cy="288720"/>
          </a:xfrm>
          <a:prstGeom prst="rect">
            <a:avLst/>
          </a:prstGeom>
          <a:solidFill>
            <a:srgbClr val="ff505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Text Box 90"/>
          <p:cNvSpPr/>
          <p:nvPr/>
        </p:nvSpPr>
        <p:spPr>
          <a:xfrm>
            <a:off x="4572000" y="3645000"/>
            <a:ext cx="1368360" cy="3333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Optometr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29 Rectángulo"/>
          <p:cNvSpPr/>
          <p:nvPr/>
        </p:nvSpPr>
        <p:spPr>
          <a:xfrm>
            <a:off x="2411280" y="3645000"/>
            <a:ext cx="1727280" cy="288720"/>
          </a:xfrm>
          <a:prstGeom prst="rect">
            <a:avLst/>
          </a:prstGeom>
          <a:solidFill>
            <a:srgbClr val="cccc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19 Rectángulo"/>
          <p:cNvSpPr/>
          <p:nvPr/>
        </p:nvSpPr>
        <p:spPr>
          <a:xfrm>
            <a:off x="6084720" y="3068640"/>
            <a:ext cx="1800360" cy="216000"/>
          </a:xfrm>
          <a:prstGeom prst="rect">
            <a:avLst/>
          </a:prstGeom>
          <a:solidFill>
            <a:srgbClr val="cccc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29 Rectángulo"/>
          <p:cNvSpPr/>
          <p:nvPr/>
        </p:nvSpPr>
        <p:spPr>
          <a:xfrm>
            <a:off x="6659640" y="1484280"/>
            <a:ext cx="208908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16 Rectángulo"/>
          <p:cNvSpPr/>
          <p:nvPr/>
        </p:nvSpPr>
        <p:spPr>
          <a:xfrm>
            <a:off x="108000" y="1413000"/>
            <a:ext cx="244800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9 Rectángulo"/>
          <p:cNvSpPr/>
          <p:nvPr/>
        </p:nvSpPr>
        <p:spPr>
          <a:xfrm>
            <a:off x="304920" y="2205000"/>
            <a:ext cx="180000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19 Rectángulo"/>
          <p:cNvSpPr/>
          <p:nvPr/>
        </p:nvSpPr>
        <p:spPr>
          <a:xfrm>
            <a:off x="250920" y="5157720"/>
            <a:ext cx="172728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18 Rectángulo"/>
          <p:cNvSpPr/>
          <p:nvPr/>
        </p:nvSpPr>
        <p:spPr>
          <a:xfrm>
            <a:off x="34920" y="4292640"/>
            <a:ext cx="208908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17 Rectángulo"/>
          <p:cNvSpPr/>
          <p:nvPr/>
        </p:nvSpPr>
        <p:spPr>
          <a:xfrm>
            <a:off x="34920" y="3500280"/>
            <a:ext cx="2305080" cy="2890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26 Elipse"/>
          <p:cNvSpPr/>
          <p:nvPr/>
        </p:nvSpPr>
        <p:spPr>
          <a:xfrm>
            <a:off x="826920" y="765000"/>
            <a:ext cx="865440" cy="503280"/>
          </a:xfrm>
          <a:prstGeom prst="ellipse">
            <a:avLst/>
          </a:prstGeom>
          <a:gradFill rotWithShape="0">
            <a:gsLst>
              <a:gs pos="0">
                <a:srgbClr val="5e6fd4"/>
              </a:gs>
              <a:gs pos="100000">
                <a:srgbClr val="6699ff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901800" y="8366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Lev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3 CuadroTexto"/>
          <p:cNvSpPr/>
          <p:nvPr/>
        </p:nvSpPr>
        <p:spPr>
          <a:xfrm>
            <a:off x="324000" y="1413000"/>
            <a:ext cx="19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teléfon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4 CuadroTexto"/>
          <p:cNvSpPr/>
          <p:nvPr/>
        </p:nvSpPr>
        <p:spPr>
          <a:xfrm>
            <a:off x="464760" y="2205000"/>
            <a:ext cx="15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cit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5 CuadroTexto"/>
          <p:cNvSpPr/>
          <p:nvPr/>
        </p:nvSpPr>
        <p:spPr>
          <a:xfrm>
            <a:off x="0" y="3500280"/>
            <a:ext cx="21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uxiliar de admis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6 CuadroTexto"/>
          <p:cNvSpPr/>
          <p:nvPr/>
        </p:nvSpPr>
        <p:spPr>
          <a:xfrm>
            <a:off x="324000" y="429408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7 CuadroTexto"/>
          <p:cNvSpPr/>
          <p:nvPr/>
        </p:nvSpPr>
        <p:spPr>
          <a:xfrm>
            <a:off x="250920" y="51404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cit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Line 16"/>
          <p:cNvSpPr/>
          <p:nvPr/>
        </p:nvSpPr>
        <p:spPr>
          <a:xfrm>
            <a:off x="1258920" y="1268280"/>
            <a:ext cx="0" cy="144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Line 17"/>
          <p:cNvSpPr/>
          <p:nvPr/>
        </p:nvSpPr>
        <p:spPr>
          <a:xfrm>
            <a:off x="1258920" y="198900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Line 18"/>
          <p:cNvSpPr/>
          <p:nvPr/>
        </p:nvSpPr>
        <p:spPr>
          <a:xfrm>
            <a:off x="1258920" y="270828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Line 19"/>
          <p:cNvSpPr/>
          <p:nvPr/>
        </p:nvSpPr>
        <p:spPr>
          <a:xfrm flipV="1">
            <a:off x="1116000" y="501300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Line 20"/>
          <p:cNvSpPr/>
          <p:nvPr/>
        </p:nvSpPr>
        <p:spPr>
          <a:xfrm>
            <a:off x="1116000" y="335772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-38160" y="1690560"/>
            <a:ext cx="27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contesta la llamada del pac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Rectangle 22"/>
          <p:cNvSpPr/>
          <p:nvPr/>
        </p:nvSpPr>
        <p:spPr>
          <a:xfrm>
            <a:off x="71280" y="1700280"/>
            <a:ext cx="2484720" cy="288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Rectangle 23"/>
          <p:cNvSpPr/>
          <p:nvPr/>
        </p:nvSpPr>
        <p:spPr>
          <a:xfrm>
            <a:off x="307800" y="2492280"/>
            <a:ext cx="1816200" cy="21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le da cita al pac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Text Box 24"/>
          <p:cNvSpPr/>
          <p:nvPr/>
        </p:nvSpPr>
        <p:spPr>
          <a:xfrm>
            <a:off x="539640" y="2852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llega al hospit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Rectangle 26"/>
          <p:cNvSpPr/>
          <p:nvPr/>
        </p:nvSpPr>
        <p:spPr>
          <a:xfrm>
            <a:off x="34920" y="3789360"/>
            <a:ext cx="2305080" cy="360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es revisado por u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oftalmólogo y le da un diagnóstic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Line 27"/>
          <p:cNvSpPr/>
          <p:nvPr/>
        </p:nvSpPr>
        <p:spPr>
          <a:xfrm flipV="1">
            <a:off x="1116000" y="414936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Rectangle 28"/>
          <p:cNvSpPr/>
          <p:nvPr/>
        </p:nvSpPr>
        <p:spPr>
          <a:xfrm>
            <a:off x="34920" y="4581360"/>
            <a:ext cx="2089080" cy="430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dministración recoge 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facturación del cl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Text Box 29"/>
          <p:cNvSpPr/>
          <p:nvPr/>
        </p:nvSpPr>
        <p:spPr>
          <a:xfrm>
            <a:off x="108000" y="54450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da cita para una próxima revi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Rectangle 30"/>
          <p:cNvSpPr/>
          <p:nvPr/>
        </p:nvSpPr>
        <p:spPr>
          <a:xfrm>
            <a:off x="250920" y="5445000"/>
            <a:ext cx="1727280" cy="432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Text Box 31"/>
          <p:cNvSpPr/>
          <p:nvPr/>
        </p:nvSpPr>
        <p:spPr>
          <a:xfrm>
            <a:off x="250920" y="602136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sale del hospit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Line 33"/>
          <p:cNvSpPr/>
          <p:nvPr/>
        </p:nvSpPr>
        <p:spPr>
          <a:xfrm flipV="1">
            <a:off x="1042920" y="587664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5 CuadroTexto">
            <a:hlinkClick r:id="rId1" action="ppaction://hlinksldjump"/>
          </p:cNvPr>
          <p:cNvSpPr/>
          <p:nvPr/>
        </p:nvSpPr>
        <p:spPr>
          <a:xfrm>
            <a:off x="3782520" y="836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Grav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28 Conector recto"/>
          <p:cNvSpPr/>
          <p:nvPr/>
        </p:nvSpPr>
        <p:spPr>
          <a:xfrm>
            <a:off x="4211640" y="126828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Text Box 39"/>
          <p:cNvSpPr/>
          <p:nvPr/>
        </p:nvSpPr>
        <p:spPr>
          <a:xfrm>
            <a:off x="3564000" y="1459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lleg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l hospit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19 Rectángulo"/>
          <p:cNvSpPr/>
          <p:nvPr/>
        </p:nvSpPr>
        <p:spPr>
          <a:xfrm>
            <a:off x="2843280" y="2133720"/>
            <a:ext cx="2736720" cy="287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Text Box 42"/>
          <p:cNvSpPr/>
          <p:nvPr/>
        </p:nvSpPr>
        <p:spPr>
          <a:xfrm>
            <a:off x="3518280" y="213372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Optometr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Text Box 43"/>
          <p:cNvSpPr/>
          <p:nvPr/>
        </p:nvSpPr>
        <p:spPr>
          <a:xfrm>
            <a:off x="2771640" y="242100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Realizan un primer chequeo al pac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Rectangle 44"/>
          <p:cNvSpPr/>
          <p:nvPr/>
        </p:nvSpPr>
        <p:spPr>
          <a:xfrm>
            <a:off x="2844720" y="2421000"/>
            <a:ext cx="2737080" cy="287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24 CuadroTexto"/>
          <p:cNvSpPr/>
          <p:nvPr/>
        </p:nvSpPr>
        <p:spPr>
          <a:xfrm>
            <a:off x="3779640" y="292428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¿Hay 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operar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25 Decisión"/>
          <p:cNvSpPr/>
          <p:nvPr/>
        </p:nvSpPr>
        <p:spPr>
          <a:xfrm>
            <a:off x="3708360" y="2852640"/>
            <a:ext cx="1008000" cy="649440"/>
          </a:xfrm>
          <a:prstGeom prst="flowChartDecision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9 CuadroTexto"/>
          <p:cNvSpPr/>
          <p:nvPr/>
        </p:nvSpPr>
        <p:spPr>
          <a:xfrm>
            <a:off x="3060720" y="32130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13 CuadroTexto"/>
          <p:cNvSpPr/>
          <p:nvPr/>
        </p:nvSpPr>
        <p:spPr>
          <a:xfrm>
            <a:off x="5018040" y="322596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26 Rectángulo"/>
          <p:cNvSpPr/>
          <p:nvPr/>
        </p:nvSpPr>
        <p:spPr>
          <a:xfrm>
            <a:off x="3103560" y="3259080"/>
            <a:ext cx="287280" cy="21744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27 Rectángulo"/>
          <p:cNvSpPr/>
          <p:nvPr/>
        </p:nvSpPr>
        <p:spPr>
          <a:xfrm>
            <a:off x="5076720" y="3284640"/>
            <a:ext cx="289080" cy="21564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28 Conector recto"/>
          <p:cNvSpPr/>
          <p:nvPr/>
        </p:nvSpPr>
        <p:spPr>
          <a:xfrm>
            <a:off x="4211640" y="198900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28 Conector recto"/>
          <p:cNvSpPr/>
          <p:nvPr/>
        </p:nvSpPr>
        <p:spPr>
          <a:xfrm>
            <a:off x="4211640" y="270828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10 CuadroTexto"/>
          <p:cNvSpPr/>
          <p:nvPr/>
        </p:nvSpPr>
        <p:spPr>
          <a:xfrm>
            <a:off x="2411280" y="3645000"/>
            <a:ext cx="201636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usuari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Rectangle 28"/>
          <p:cNvSpPr/>
          <p:nvPr/>
        </p:nvSpPr>
        <p:spPr>
          <a:xfrm>
            <a:off x="2340000" y="4365720"/>
            <a:ext cx="201456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Médico de urgenci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12 CuadroTexto"/>
          <p:cNvSpPr/>
          <p:nvPr/>
        </p:nvSpPr>
        <p:spPr>
          <a:xfrm>
            <a:off x="2268360" y="4995720"/>
            <a:ext cx="1943280" cy="2336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17 CuadroTexto"/>
          <p:cNvSpPr/>
          <p:nvPr/>
        </p:nvSpPr>
        <p:spPr>
          <a:xfrm>
            <a:off x="2411280" y="5788080"/>
            <a:ext cx="1873440" cy="233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cit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Rectangle 65"/>
          <p:cNvSpPr/>
          <p:nvPr/>
        </p:nvSpPr>
        <p:spPr>
          <a:xfrm>
            <a:off x="2411280" y="3933720"/>
            <a:ext cx="2016360" cy="360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Organizan la operac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del pac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28 Conector recto"/>
          <p:cNvSpPr/>
          <p:nvPr/>
        </p:nvSpPr>
        <p:spPr>
          <a:xfrm>
            <a:off x="3203640" y="4292640"/>
            <a:ext cx="0" cy="65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Rectangle 79"/>
          <p:cNvSpPr/>
          <p:nvPr/>
        </p:nvSpPr>
        <p:spPr>
          <a:xfrm>
            <a:off x="2340000" y="4653000"/>
            <a:ext cx="2016000" cy="21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Realizan la operac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Rectangle 82"/>
          <p:cNvSpPr/>
          <p:nvPr/>
        </p:nvSpPr>
        <p:spPr>
          <a:xfrm>
            <a:off x="2268360" y="5229360"/>
            <a:ext cx="1944720" cy="430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dministración recoge 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facturación del cl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Text Box 83"/>
          <p:cNvSpPr/>
          <p:nvPr/>
        </p:nvSpPr>
        <p:spPr>
          <a:xfrm>
            <a:off x="2268360" y="5950080"/>
            <a:ext cx="20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da cita para una próxima revi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Rectangle 84"/>
          <p:cNvSpPr/>
          <p:nvPr/>
        </p:nvSpPr>
        <p:spPr>
          <a:xfrm>
            <a:off x="2414520" y="6021360"/>
            <a:ext cx="1871640" cy="358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Line 85"/>
          <p:cNvSpPr/>
          <p:nvPr/>
        </p:nvSpPr>
        <p:spPr>
          <a:xfrm>
            <a:off x="32036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Line 86"/>
          <p:cNvSpPr/>
          <p:nvPr/>
        </p:nvSpPr>
        <p:spPr>
          <a:xfrm>
            <a:off x="32036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Text Box 91"/>
          <p:cNvSpPr/>
          <p:nvPr/>
        </p:nvSpPr>
        <p:spPr>
          <a:xfrm>
            <a:off x="4427640" y="3979800"/>
            <a:ext cx="16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Le da el tratamient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decuad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Rectangle 92"/>
          <p:cNvSpPr/>
          <p:nvPr/>
        </p:nvSpPr>
        <p:spPr>
          <a:xfrm>
            <a:off x="4572000" y="4005360"/>
            <a:ext cx="1368360" cy="431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28 Conector recto"/>
          <p:cNvSpPr/>
          <p:nvPr/>
        </p:nvSpPr>
        <p:spPr>
          <a:xfrm>
            <a:off x="5219640" y="350028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12 CuadroTexto"/>
          <p:cNvSpPr/>
          <p:nvPr/>
        </p:nvSpPr>
        <p:spPr>
          <a:xfrm>
            <a:off x="4427640" y="4508640"/>
            <a:ext cx="161928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17 CuadroTexto"/>
          <p:cNvSpPr/>
          <p:nvPr/>
        </p:nvSpPr>
        <p:spPr>
          <a:xfrm>
            <a:off x="4427640" y="5445000"/>
            <a:ext cx="1873080" cy="304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cit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Rectangle 105"/>
          <p:cNvSpPr/>
          <p:nvPr/>
        </p:nvSpPr>
        <p:spPr>
          <a:xfrm>
            <a:off x="4427640" y="4797360"/>
            <a:ext cx="1657080" cy="576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dministración recog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la facturació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del cl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Text Box 106"/>
          <p:cNvSpPr/>
          <p:nvPr/>
        </p:nvSpPr>
        <p:spPr>
          <a:xfrm>
            <a:off x="4356000" y="5661000"/>
            <a:ext cx="20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da cita para una próxima revi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Rectangle 107"/>
          <p:cNvSpPr/>
          <p:nvPr/>
        </p:nvSpPr>
        <p:spPr>
          <a:xfrm>
            <a:off x="4427640" y="5734080"/>
            <a:ext cx="1871640" cy="358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Line 108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Line 109"/>
          <p:cNvSpPr/>
          <p:nvPr/>
        </p:nvSpPr>
        <p:spPr>
          <a:xfrm>
            <a:off x="5292720" y="4437000"/>
            <a:ext cx="0" cy="71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Line 110"/>
          <p:cNvSpPr/>
          <p:nvPr/>
        </p:nvSpPr>
        <p:spPr>
          <a:xfrm>
            <a:off x="3278160" y="6381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Line 111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Line 112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Text Box 114"/>
          <p:cNvSpPr/>
          <p:nvPr/>
        </p:nvSpPr>
        <p:spPr>
          <a:xfrm>
            <a:off x="4714920" y="616572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sale del hospit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7 CuadroTexto">
            <a:hlinkClick r:id="rId2" action="ppaction://hlinksldjump"/>
          </p:cNvPr>
          <p:cNvSpPr/>
          <p:nvPr/>
        </p:nvSpPr>
        <p:spPr>
          <a:xfrm>
            <a:off x="7168320" y="26028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Urgent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6883920" y="1498680"/>
            <a:ext cx="168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Médico urgenci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6873480" y="2349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¿Hay qué ingresar?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26 Decisión"/>
          <p:cNvSpPr/>
          <p:nvPr/>
        </p:nvSpPr>
        <p:spPr>
          <a:xfrm>
            <a:off x="6804000" y="2205000"/>
            <a:ext cx="1871640" cy="574560"/>
          </a:xfrm>
          <a:prstGeom prst="flowChartDecision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28 Conector recto"/>
          <p:cNvSpPr/>
          <p:nvPr/>
        </p:nvSpPr>
        <p:spPr>
          <a:xfrm>
            <a:off x="7740720" y="1341360"/>
            <a:ext cx="0" cy="1382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Rectangle 149"/>
          <p:cNvSpPr/>
          <p:nvPr/>
        </p:nvSpPr>
        <p:spPr>
          <a:xfrm>
            <a:off x="6659640" y="1773360"/>
            <a:ext cx="2089080" cy="2872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Diagnostican al pacient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28 Conector recto"/>
          <p:cNvSpPr/>
          <p:nvPr/>
        </p:nvSpPr>
        <p:spPr>
          <a:xfrm>
            <a:off x="7740720" y="2060640"/>
            <a:ext cx="0" cy="1378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13 CuadroTexto"/>
          <p:cNvSpPr/>
          <p:nvPr/>
        </p:nvSpPr>
        <p:spPr>
          <a:xfrm>
            <a:off x="8317080" y="272088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27 Rectángulo"/>
          <p:cNvSpPr/>
          <p:nvPr/>
        </p:nvSpPr>
        <p:spPr>
          <a:xfrm>
            <a:off x="8388360" y="2781360"/>
            <a:ext cx="289080" cy="216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9 CuadroTexto"/>
          <p:cNvSpPr/>
          <p:nvPr/>
        </p:nvSpPr>
        <p:spPr>
          <a:xfrm>
            <a:off x="6804000" y="27082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26 Rectángulo"/>
          <p:cNvSpPr/>
          <p:nvPr/>
        </p:nvSpPr>
        <p:spPr>
          <a:xfrm>
            <a:off x="6804000" y="2781360"/>
            <a:ext cx="287280" cy="21744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Rectangle 156"/>
          <p:cNvSpPr/>
          <p:nvPr/>
        </p:nvSpPr>
        <p:spPr>
          <a:xfrm>
            <a:off x="6012000" y="2997360"/>
            <a:ext cx="2087280" cy="3045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uxiliar de admisión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Rectangle 157"/>
          <p:cNvSpPr/>
          <p:nvPr/>
        </p:nvSpPr>
        <p:spPr>
          <a:xfrm>
            <a:off x="6084720" y="3355920"/>
            <a:ext cx="2016360" cy="504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ingresa al paciente, 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tienden y almacenan su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dat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Text Box 162"/>
          <p:cNvSpPr/>
          <p:nvPr/>
        </p:nvSpPr>
        <p:spPr>
          <a:xfrm>
            <a:off x="6156360" y="4005360"/>
            <a:ext cx="1728720" cy="2156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uxiliar de plan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Rectangle 163"/>
          <p:cNvSpPr/>
          <p:nvPr/>
        </p:nvSpPr>
        <p:spPr>
          <a:xfrm>
            <a:off x="6156360" y="4221000"/>
            <a:ext cx="1728720" cy="21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Cuida al enferm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12 CuadroTexto"/>
          <p:cNvSpPr/>
          <p:nvPr/>
        </p:nvSpPr>
        <p:spPr>
          <a:xfrm>
            <a:off x="7020000" y="4653000"/>
            <a:ext cx="1944720" cy="233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17 CuadroTexto"/>
          <p:cNvSpPr/>
          <p:nvPr/>
        </p:nvSpPr>
        <p:spPr>
          <a:xfrm>
            <a:off x="7164360" y="5427720"/>
            <a:ext cx="1800360" cy="233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b8b"/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Gestión de cit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Rectangle 169"/>
          <p:cNvSpPr/>
          <p:nvPr/>
        </p:nvSpPr>
        <p:spPr>
          <a:xfrm>
            <a:off x="7020000" y="4869000"/>
            <a:ext cx="1944720" cy="430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Administración recoge 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facturación del client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Text Box 170"/>
          <p:cNvSpPr/>
          <p:nvPr/>
        </p:nvSpPr>
        <p:spPr>
          <a:xfrm>
            <a:off x="7128000" y="558972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e da cita para una próxima revi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Rectangle 171"/>
          <p:cNvSpPr/>
          <p:nvPr/>
        </p:nvSpPr>
        <p:spPr>
          <a:xfrm>
            <a:off x="7164360" y="5661000"/>
            <a:ext cx="1871640" cy="358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Line 172"/>
          <p:cNvSpPr/>
          <p:nvPr/>
        </p:nvSpPr>
        <p:spPr>
          <a:xfrm>
            <a:off x="7885080" y="530064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Line 173"/>
          <p:cNvSpPr/>
          <p:nvPr/>
        </p:nvSpPr>
        <p:spPr>
          <a:xfrm>
            <a:off x="8532720" y="2997360"/>
            <a:ext cx="0" cy="165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Text Box 174"/>
          <p:cNvSpPr/>
          <p:nvPr/>
        </p:nvSpPr>
        <p:spPr>
          <a:xfrm>
            <a:off x="7216920" y="6140520"/>
            <a:ext cx="145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sale del hospit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Line 177"/>
          <p:cNvSpPr/>
          <p:nvPr/>
        </p:nvSpPr>
        <p:spPr>
          <a:xfrm flipV="1">
            <a:off x="7885080" y="602100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Line 178"/>
          <p:cNvSpPr/>
          <p:nvPr/>
        </p:nvSpPr>
        <p:spPr>
          <a:xfrm flipV="1">
            <a:off x="6948360" y="378900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Line 179"/>
          <p:cNvSpPr/>
          <p:nvPr/>
        </p:nvSpPr>
        <p:spPr>
          <a:xfrm flipV="1">
            <a:off x="7164360" y="4436640"/>
            <a:ext cx="0" cy="214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Line 180"/>
          <p:cNvSpPr/>
          <p:nvPr/>
        </p:nvSpPr>
        <p:spPr>
          <a:xfrm flipV="1">
            <a:off x="6948360" y="2565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Line 181"/>
          <p:cNvSpPr/>
          <p:nvPr/>
        </p:nvSpPr>
        <p:spPr>
          <a:xfrm flipV="1">
            <a:off x="8532720" y="2565360"/>
            <a:ext cx="0" cy="216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Line 182"/>
          <p:cNvSpPr/>
          <p:nvPr/>
        </p:nvSpPr>
        <p:spPr>
          <a:xfrm flipV="1">
            <a:off x="3203640" y="3500280"/>
            <a:ext cx="0" cy="144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5" name="Line 183"/>
          <p:cNvSpPr/>
          <p:nvPr/>
        </p:nvSpPr>
        <p:spPr>
          <a:xfrm flipV="1">
            <a:off x="6948360" y="2997360"/>
            <a:ext cx="0" cy="71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Line 184"/>
          <p:cNvSpPr/>
          <p:nvPr/>
        </p:nvSpPr>
        <p:spPr>
          <a:xfrm flipV="1">
            <a:off x="3419640" y="3284280"/>
            <a:ext cx="431640" cy="73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Line 185"/>
          <p:cNvSpPr/>
          <p:nvPr/>
        </p:nvSpPr>
        <p:spPr>
          <a:xfrm flipH="1" flipV="1">
            <a:off x="4643280" y="3213000"/>
            <a:ext cx="433440" cy="144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3 CuadroTexto"/>
          <p:cNvSpPr/>
          <p:nvPr/>
        </p:nvSpPr>
        <p:spPr>
          <a:xfrm>
            <a:off x="3203640" y="13968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Estado del pacient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Line 189"/>
          <p:cNvSpPr/>
          <p:nvPr/>
        </p:nvSpPr>
        <p:spPr>
          <a:xfrm flipV="1">
            <a:off x="1258920" y="476280"/>
            <a:ext cx="1873080" cy="288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Line 190"/>
          <p:cNvSpPr/>
          <p:nvPr/>
        </p:nvSpPr>
        <p:spPr>
          <a:xfrm flipV="1">
            <a:off x="4211640" y="549000"/>
            <a:ext cx="0" cy="21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Line 191"/>
          <p:cNvSpPr/>
          <p:nvPr/>
        </p:nvSpPr>
        <p:spPr>
          <a:xfrm>
            <a:off x="5508720" y="333360"/>
            <a:ext cx="15843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Line 216"/>
          <p:cNvSpPr/>
          <p:nvPr/>
        </p:nvSpPr>
        <p:spPr>
          <a:xfrm>
            <a:off x="32036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Line 217"/>
          <p:cNvSpPr/>
          <p:nvPr/>
        </p:nvSpPr>
        <p:spPr>
          <a:xfrm>
            <a:off x="32036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Line 218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Line 219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Line 220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Line 221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Line 222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Line 223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Line 224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Line 225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2" name="Line 226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Line 227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Line 228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Line 229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Line 230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Line 231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Line 232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Line 233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Line 234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Line 235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Rectangle 236"/>
          <p:cNvSpPr/>
          <p:nvPr/>
        </p:nvSpPr>
        <p:spPr>
          <a:xfrm>
            <a:off x="4572000" y="4005360"/>
            <a:ext cx="1368360" cy="431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Line 237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Line 238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Line 239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Line 240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Line 241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Line 242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Rectangle 243"/>
          <p:cNvSpPr/>
          <p:nvPr/>
        </p:nvSpPr>
        <p:spPr>
          <a:xfrm>
            <a:off x="4572000" y="4005360"/>
            <a:ext cx="1368360" cy="431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Line 244"/>
          <p:cNvSpPr/>
          <p:nvPr/>
        </p:nvSpPr>
        <p:spPr>
          <a:xfrm>
            <a:off x="5292720" y="5373720"/>
            <a:ext cx="0" cy="73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Line 245"/>
          <p:cNvSpPr/>
          <p:nvPr/>
        </p:nvSpPr>
        <p:spPr>
          <a:xfrm>
            <a:off x="5292720" y="6093000"/>
            <a:ext cx="0" cy="72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Line 246"/>
          <p:cNvSpPr/>
          <p:nvPr/>
        </p:nvSpPr>
        <p:spPr>
          <a:xfrm>
            <a:off x="3276720" y="6524640"/>
            <a:ext cx="1439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Line 247"/>
          <p:cNvSpPr/>
          <p:nvPr/>
        </p:nvSpPr>
        <p:spPr>
          <a:xfrm>
            <a:off x="3276720" y="6381720"/>
            <a:ext cx="0" cy="142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Line 248"/>
          <p:cNvSpPr/>
          <p:nvPr/>
        </p:nvSpPr>
        <p:spPr>
          <a:xfrm>
            <a:off x="3201840" y="5661000"/>
            <a:ext cx="0" cy="73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Line 249"/>
          <p:cNvSpPr/>
          <p:nvPr/>
        </p:nvSpPr>
        <p:spPr>
          <a:xfrm>
            <a:off x="3201840" y="4869000"/>
            <a:ext cx="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Oval 260"/>
          <p:cNvSpPr/>
          <p:nvPr/>
        </p:nvSpPr>
        <p:spPr>
          <a:xfrm>
            <a:off x="6443640" y="907920"/>
            <a:ext cx="2376360" cy="432000"/>
          </a:xfrm>
          <a:prstGeom prst="ellipse">
            <a:avLst/>
          </a:prstGeom>
          <a:gradFill rotWithShape="0">
            <a:gsLst>
              <a:gs pos="0">
                <a:srgbClr val="ff8b8b"/>
              </a:gs>
              <a:gs pos="50000">
                <a:srgbClr val="ff944b"/>
              </a:gs>
              <a:gs pos="100000">
                <a:srgbClr val="ff8b8b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Text Box 261"/>
          <p:cNvSpPr/>
          <p:nvPr/>
        </p:nvSpPr>
        <p:spPr>
          <a:xfrm>
            <a:off x="6372360" y="98100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El paciente llega al hospit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28 Conector recto"/>
          <p:cNvSpPr/>
          <p:nvPr/>
        </p:nvSpPr>
        <p:spPr>
          <a:xfrm>
            <a:off x="7667640" y="770040"/>
            <a:ext cx="0" cy="1378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WordArt 5"/>
          <p:cNvSpPr txBox="1"/>
          <p:nvPr/>
        </p:nvSpPr>
        <p:spPr>
          <a:xfrm>
            <a:off x="4427640" y="1844640"/>
            <a:ext cx="288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INSTITUTO DE 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OFTALMOLOGÍA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00" name="WordArt 6"/>
          <p:cNvSpPr txBox="1"/>
          <p:nvPr/>
        </p:nvSpPr>
        <p:spPr>
          <a:xfrm>
            <a:off x="1476360" y="5084640"/>
            <a:ext cx="1800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HOSPITAL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601" name="Picture 7" descr="instituto1"/>
          <p:cNvPicPr/>
          <p:nvPr/>
        </p:nvPicPr>
        <p:blipFill>
          <a:blip r:embed="rId1"/>
          <a:stretch/>
        </p:blipFill>
        <p:spPr>
          <a:xfrm>
            <a:off x="684360" y="1413000"/>
            <a:ext cx="3301920" cy="21970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hospital1"/>
          <p:cNvPicPr/>
          <p:nvPr/>
        </p:nvPicPr>
        <p:blipFill>
          <a:blip r:embed="rId2"/>
          <a:stretch/>
        </p:blipFill>
        <p:spPr>
          <a:xfrm>
            <a:off x="4140360" y="3933720"/>
            <a:ext cx="3289320" cy="219708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12"/>
          <p:cNvSpPr/>
          <p:nvPr/>
        </p:nvSpPr>
        <p:spPr>
          <a:xfrm>
            <a:off x="8028000" y="6165720"/>
            <a:ext cx="720720" cy="503280"/>
          </a:xfrm>
          <a:prstGeom prst="leftArrow">
            <a:avLst>
              <a:gd name="adj1" fmla="val 42139"/>
              <a:gd name="adj2" fmla="val 41005"/>
            </a:avLst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Índic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WordArt 206"/>
          <p:cNvSpPr txBox="1"/>
          <p:nvPr/>
        </p:nvSpPr>
        <p:spPr>
          <a:xfrm>
            <a:off x="1547640" y="404640"/>
            <a:ext cx="576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INSTALACION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4"/>
          <p:cNvSpPr/>
          <p:nvPr/>
        </p:nvSpPr>
        <p:spPr>
          <a:xfrm>
            <a:off x="6370920" y="2060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1 Sala de láse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3280680" y="1413000"/>
            <a:ext cx="30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7 Consultas de oftalm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614880" y="45086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4 Salas de esp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5943600" y="46530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4 Consultas de optomet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2777400" y="558972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2 Despachos de atención al usua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568080" y="205416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2 Salas de explo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WordArt 12"/>
          <p:cNvSpPr txBox="1"/>
          <p:nvPr/>
        </p:nvSpPr>
        <p:spPr>
          <a:xfrm>
            <a:off x="1979640" y="2924280"/>
            <a:ext cx="532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INSTITUT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DE OFTALMOLOGÍ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612" name="Oval 13"/>
          <p:cNvSpPr/>
          <p:nvPr/>
        </p:nvSpPr>
        <p:spPr>
          <a:xfrm>
            <a:off x="1547640" y="2637000"/>
            <a:ext cx="6409080" cy="1511280"/>
          </a:xfrm>
          <a:prstGeom prst="ellipse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3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4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AutoShape 20"/>
          <p:cNvSpPr/>
          <p:nvPr/>
        </p:nvSpPr>
        <p:spPr>
          <a:xfrm>
            <a:off x="7308720" y="5950080"/>
            <a:ext cx="1224000" cy="647640"/>
          </a:xfrm>
          <a:prstGeom prst="leftArrow">
            <a:avLst>
              <a:gd name="adj1" fmla="val 50000"/>
              <a:gd name="adj2" fmla="val 47248"/>
            </a:avLst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Volver 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instalacion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1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Line 18"/>
          <p:cNvSpPr/>
          <p:nvPr/>
        </p:nvSpPr>
        <p:spPr>
          <a:xfrm flipV="1">
            <a:off x="6948360" y="2420640"/>
            <a:ext cx="287640" cy="4316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Line 19"/>
          <p:cNvSpPr/>
          <p:nvPr/>
        </p:nvSpPr>
        <p:spPr>
          <a:xfrm>
            <a:off x="6732720" y="4005360"/>
            <a:ext cx="576000" cy="4316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Line 14"/>
          <p:cNvSpPr/>
          <p:nvPr/>
        </p:nvSpPr>
        <p:spPr>
          <a:xfrm>
            <a:off x="4788000" y="4149720"/>
            <a:ext cx="0" cy="12952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Line 15"/>
          <p:cNvSpPr/>
          <p:nvPr/>
        </p:nvSpPr>
        <p:spPr>
          <a:xfrm flipH="1">
            <a:off x="1258560" y="3860640"/>
            <a:ext cx="1079640" cy="5749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Line 16"/>
          <p:cNvSpPr/>
          <p:nvPr/>
        </p:nvSpPr>
        <p:spPr>
          <a:xfrm flipH="1" flipV="1">
            <a:off x="2410920" y="2420640"/>
            <a:ext cx="287640" cy="360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Line 17"/>
          <p:cNvSpPr/>
          <p:nvPr/>
        </p:nvSpPr>
        <p:spPr>
          <a:xfrm flipV="1">
            <a:off x="4643280" y="184428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4"/>
          <p:cNvSpPr txBox="1"/>
          <p:nvPr/>
        </p:nvSpPr>
        <p:spPr>
          <a:xfrm>
            <a:off x="3132000" y="2852640"/>
            <a:ext cx="331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HOSPITAL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830520" y="13334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2 Salas de esp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2993400" y="90792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Zona de hospitalización c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Habitaciones de corta y larga du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7250400" y="386712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1 Sala de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reanim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2271240" y="50133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4 Quirófan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7119360" y="177336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3 Consultas y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1 de urgenc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322200" y="25574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dminist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87240" y="4286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ala de Jun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Text Box 12"/>
          <p:cNvSpPr/>
          <p:nvPr/>
        </p:nvSpPr>
        <p:spPr>
          <a:xfrm>
            <a:off x="5080680" y="49417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de de la Fundació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“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arruzafa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7" name="Oval 13"/>
          <p:cNvSpPr/>
          <p:nvPr/>
        </p:nvSpPr>
        <p:spPr>
          <a:xfrm>
            <a:off x="2627280" y="2421000"/>
            <a:ext cx="4105440" cy="1295280"/>
          </a:xfrm>
          <a:prstGeom prst="ellipse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Line 19"/>
          <p:cNvSpPr/>
          <p:nvPr/>
        </p:nvSpPr>
        <p:spPr>
          <a:xfrm>
            <a:off x="2700360" y="1773360"/>
            <a:ext cx="934920" cy="792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AutoShape 23"/>
          <p:cNvSpPr/>
          <p:nvPr/>
        </p:nvSpPr>
        <p:spPr>
          <a:xfrm>
            <a:off x="7308720" y="5950080"/>
            <a:ext cx="1224000" cy="647640"/>
          </a:xfrm>
          <a:prstGeom prst="leftArrow">
            <a:avLst>
              <a:gd name="adj1" fmla="val 50000"/>
              <a:gd name="adj2" fmla="val 47248"/>
            </a:avLst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Volver 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instalacion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1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5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Line 21"/>
          <p:cNvSpPr/>
          <p:nvPr/>
        </p:nvSpPr>
        <p:spPr>
          <a:xfrm>
            <a:off x="2124000" y="2781360"/>
            <a:ext cx="505080" cy="216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Line 18"/>
          <p:cNvSpPr/>
          <p:nvPr/>
        </p:nvSpPr>
        <p:spPr>
          <a:xfrm flipH="1">
            <a:off x="2411280" y="3500280"/>
            <a:ext cx="720720" cy="792360"/>
          </a:xfrm>
          <a:prstGeom prst="line">
            <a:avLst/>
          </a:prstGeom>
          <a:ln w="9360">
            <a:solidFill>
              <a:srgbClr val="ff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8" name="Line 15"/>
          <p:cNvSpPr/>
          <p:nvPr/>
        </p:nvSpPr>
        <p:spPr>
          <a:xfrm flipH="1">
            <a:off x="3203280" y="3716280"/>
            <a:ext cx="793800" cy="1225440"/>
          </a:xfrm>
          <a:prstGeom prst="line">
            <a:avLst/>
          </a:prstGeom>
          <a:ln w="9360">
            <a:solidFill>
              <a:srgbClr val="ff8b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Line 16"/>
          <p:cNvSpPr/>
          <p:nvPr/>
        </p:nvSpPr>
        <p:spPr>
          <a:xfrm>
            <a:off x="5580000" y="3645000"/>
            <a:ext cx="719280" cy="115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6804000" y="3284640"/>
            <a:ext cx="719280" cy="4334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1" name="Line 14"/>
          <p:cNvSpPr/>
          <p:nvPr/>
        </p:nvSpPr>
        <p:spPr>
          <a:xfrm>
            <a:off x="4643280" y="1628640"/>
            <a:ext cx="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2" name="Line 20"/>
          <p:cNvSpPr/>
          <p:nvPr/>
        </p:nvSpPr>
        <p:spPr>
          <a:xfrm flipH="1">
            <a:off x="5940360" y="2060640"/>
            <a:ext cx="1152720" cy="5032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Line 21"/>
          <p:cNvSpPr/>
          <p:nvPr/>
        </p:nvSpPr>
        <p:spPr>
          <a:xfrm>
            <a:off x="2124000" y="2781360"/>
            <a:ext cx="505080" cy="216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Line 18"/>
          <p:cNvSpPr/>
          <p:nvPr/>
        </p:nvSpPr>
        <p:spPr>
          <a:xfrm flipH="1">
            <a:off x="2411280" y="3500280"/>
            <a:ext cx="720720" cy="792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Line 15"/>
          <p:cNvSpPr/>
          <p:nvPr/>
        </p:nvSpPr>
        <p:spPr>
          <a:xfrm flipH="1">
            <a:off x="3203280" y="3716280"/>
            <a:ext cx="793800" cy="12254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56" name="Picture 54" descr="gif oculista"/>
          <p:cNvPicPr/>
          <p:nvPr/>
        </p:nvPicPr>
        <p:blipFill>
          <a:blip r:embed="rId1"/>
          <a:stretch/>
        </p:blipFill>
        <p:spPr>
          <a:xfrm>
            <a:off x="611280" y="5013360"/>
            <a:ext cx="123804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Oval 7"/>
          <p:cNvSpPr/>
          <p:nvPr/>
        </p:nvSpPr>
        <p:spPr>
          <a:xfrm>
            <a:off x="4284720" y="2568600"/>
            <a:ext cx="358560" cy="28908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4914000" y="249084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SPECIALIDAD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4933440" y="399096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RUEBAS DE DIAGNÓSTIC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4934520" y="543888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RGENCIAS 24 HOR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Oval 11"/>
          <p:cNvSpPr/>
          <p:nvPr/>
        </p:nvSpPr>
        <p:spPr>
          <a:xfrm>
            <a:off x="4284720" y="5516640"/>
            <a:ext cx="358560" cy="28872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Oval 12"/>
          <p:cNvSpPr/>
          <p:nvPr/>
        </p:nvSpPr>
        <p:spPr>
          <a:xfrm>
            <a:off x="4284720" y="4062240"/>
            <a:ext cx="358560" cy="28908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3" name="Oval 7"/>
          <p:cNvSpPr/>
          <p:nvPr/>
        </p:nvSpPr>
        <p:spPr>
          <a:xfrm>
            <a:off x="4284720" y="1125360"/>
            <a:ext cx="358560" cy="289080"/>
          </a:xfrm>
          <a:prstGeom prst="ellipse">
            <a:avLst/>
          </a:prstGeom>
          <a:solidFill>
            <a:srgbClr val="ff8b8b"/>
          </a:solidFill>
          <a:ln w="9360">
            <a:solidFill>
              <a:srgbClr val="ff8b8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4" name="9 CuadroTexto"/>
          <p:cNvSpPr/>
          <p:nvPr/>
        </p:nvSpPr>
        <p:spPr>
          <a:xfrm>
            <a:off x="4720320" y="107172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RINCIPALES SERVICIO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QUE PRES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5" name="WordArt 206"/>
          <p:cNvSpPr txBox="1"/>
          <p:nvPr/>
        </p:nvSpPr>
        <p:spPr>
          <a:xfrm>
            <a:off x="468360" y="3500280"/>
            <a:ext cx="28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SERVICIO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6 CuadroTexto"/>
          <p:cNvSpPr/>
          <p:nvPr/>
        </p:nvSpPr>
        <p:spPr>
          <a:xfrm>
            <a:off x="611280" y="2924280"/>
            <a:ext cx="8072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El hospital realiza una media de 15 operaciones diari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El prototipo de paciente es personas mayores, de 65-70 años, y niños con una edad inferior a 8 año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La operación más solicitada es la referida a problemas de catarat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WordArt 5"/>
          <p:cNvSpPr txBox="1"/>
          <p:nvPr/>
        </p:nvSpPr>
        <p:spPr>
          <a:xfrm>
            <a:off x="1258920" y="692280"/>
            <a:ext cx="692928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PRINCIPALES SERVICIOS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QUE PREST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668" name="Picture 6" descr="attar"/>
          <p:cNvPicPr/>
          <p:nvPr/>
        </p:nvPicPr>
        <p:blipFill>
          <a:blip r:embed="rId1"/>
          <a:stretch/>
        </p:blipFill>
        <p:spPr>
          <a:xfrm>
            <a:off x="395280" y="155736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4"/>
          <p:cNvSpPr/>
          <p:nvPr/>
        </p:nvSpPr>
        <p:spPr>
          <a:xfrm>
            <a:off x="3924360" y="3141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atara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3898800" y="4797360"/>
            <a:ext cx="49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cirugía refractiv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1" name="Text Box 26"/>
          <p:cNvSpPr/>
          <p:nvPr/>
        </p:nvSpPr>
        <p:spPr>
          <a:xfrm>
            <a:off x="1222200" y="33336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Vítreo-Retina-Diabetes Ocular y Desprendimiento de la Retin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3931920" y="6922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Vítreo-Retina-Degeneración macula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3924360" y="112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Oftalmología Infantil - Estrab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3924360" y="52228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Glaucoma - Neuroftalm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Text Box 30"/>
          <p:cNvSpPr/>
          <p:nvPr/>
        </p:nvSpPr>
        <p:spPr>
          <a:xfrm>
            <a:off x="3924360" y="44308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Transplan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6" name="Text Box 31"/>
          <p:cNvSpPr/>
          <p:nvPr/>
        </p:nvSpPr>
        <p:spPr>
          <a:xfrm>
            <a:off x="3924360" y="1557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Superficie Ocular- Ojo se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7" name="Text Box 32"/>
          <p:cNvSpPr/>
          <p:nvPr/>
        </p:nvSpPr>
        <p:spPr>
          <a:xfrm>
            <a:off x="3924360" y="57261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Párpados, Órbita y Vías lacrima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8" name="Text Box 33"/>
          <p:cNvSpPr/>
          <p:nvPr/>
        </p:nvSpPr>
        <p:spPr>
          <a:xfrm>
            <a:off x="3780000" y="6157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Inmunología Ocular – Alergia y Uveíti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9" name="Text Box 34"/>
          <p:cNvSpPr/>
          <p:nvPr/>
        </p:nvSpPr>
        <p:spPr>
          <a:xfrm>
            <a:off x="3924360" y="35672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serterap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0" name="Text Box 35"/>
          <p:cNvSpPr/>
          <p:nvPr/>
        </p:nvSpPr>
        <p:spPr>
          <a:xfrm>
            <a:off x="3924360" y="400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Optomet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1" name="Text Box 36"/>
          <p:cNvSpPr/>
          <p:nvPr/>
        </p:nvSpPr>
        <p:spPr>
          <a:xfrm>
            <a:off x="3924360" y="2349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Contact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2" name="Text Box 37"/>
          <p:cNvSpPr/>
          <p:nvPr/>
        </p:nvSpPr>
        <p:spPr>
          <a:xfrm>
            <a:off x="3924360" y="27082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Baja vis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3" name="Text Box 38"/>
          <p:cNvSpPr/>
          <p:nvPr/>
        </p:nvSpPr>
        <p:spPr>
          <a:xfrm>
            <a:off x="3924360" y="19828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nidad de Prótesis Ocula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WordArt 39"/>
          <p:cNvSpPr txBox="1"/>
          <p:nvPr/>
        </p:nvSpPr>
        <p:spPr>
          <a:xfrm>
            <a:off x="1116000" y="292428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ESPECIALIDAD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685" name="Picture 19" descr="doctor_chart_md_wht"/>
          <p:cNvPicPr/>
          <p:nvPr/>
        </p:nvPicPr>
        <p:blipFill>
          <a:blip r:embed="rId1"/>
          <a:stretch/>
        </p:blipFill>
        <p:spPr>
          <a:xfrm>
            <a:off x="34920" y="44280"/>
            <a:ext cx="762120" cy="10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7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9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2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9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6"/>
          <p:cNvSpPr/>
          <p:nvPr/>
        </p:nvSpPr>
        <p:spPr>
          <a:xfrm>
            <a:off x="3419640" y="126828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3403440" y="198900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10">
            <a:hlinkClick r:id="rId1" action="ppaction://hlinksldjump"/>
          </p:cNvPr>
          <p:cNvSpPr/>
          <p:nvPr/>
        </p:nvSpPr>
        <p:spPr>
          <a:xfrm>
            <a:off x="3781440" y="105264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Historia de la empr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11">
            <a:hlinkClick r:id="rId2" action="ppaction://hlinksldjump"/>
          </p:cNvPr>
          <p:cNvSpPr/>
          <p:nvPr/>
        </p:nvSpPr>
        <p:spPr>
          <a:xfrm>
            <a:off x="3852720" y="141300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Organigram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03440" y="314172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3">
            <a:hlinkClick r:id="rId3" action="ppaction://hlinksldjump"/>
          </p:cNvPr>
          <p:cNvSpPr/>
          <p:nvPr/>
        </p:nvSpPr>
        <p:spPr>
          <a:xfrm>
            <a:off x="3864600" y="2827440"/>
            <a:ext cx="20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Instalacio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14">
            <a:hlinkClick r:id="rId4" action="ppaction://hlinksldjump"/>
          </p:cNvPr>
          <p:cNvSpPr/>
          <p:nvPr/>
        </p:nvSpPr>
        <p:spPr>
          <a:xfrm>
            <a:off x="3922200" y="318780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Servic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905280" y="35002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Pers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Line 26"/>
          <p:cNvSpPr/>
          <p:nvPr/>
        </p:nvSpPr>
        <p:spPr>
          <a:xfrm>
            <a:off x="3403440" y="342900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27"/>
          <p:cNvSpPr/>
          <p:nvPr/>
        </p:nvSpPr>
        <p:spPr>
          <a:xfrm>
            <a:off x="3403440" y="378936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405240" y="162864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3795120" y="17733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Análisis de la estructu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3403440" y="242100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3814920" y="2179800"/>
            <a:ext cx="30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Subsistema cultu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3403440" y="278136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794040" y="2492280"/>
            <a:ext cx="27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Mapa de proces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3403440" y="407664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3742920" y="383544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Subcontratación (outsourcin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801600" y="4181400"/>
            <a:ext cx="361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Análisis del entor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Análisis de estrateg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Análisis de la tecnolog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Análisis de gobier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3405240" y="595008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3403440" y="443700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3403440" y="479736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3403440" y="522936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3405240" y="551808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3822120" y="57085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Sylfaen"/>
                <a:ea typeface="Arial"/>
              </a:rPr>
              <a:t>Sistema de calid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433680" y="126828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419640" y="1628640"/>
            <a:ext cx="360360" cy="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29080" y="981000"/>
            <a:ext cx="5329080" cy="5400720"/>
          </a:xfrm>
          <a:custGeom>
            <a:avLst/>
            <a:gdLst>
              <a:gd name="textAreaLeft" fmla="*/ 259920 w 5329080"/>
              <a:gd name="textAreaRight" fmla="*/ 5069160 w 5329080"/>
              <a:gd name="textAreaTop" fmla="*/ 259920 h 5400720"/>
              <a:gd name="textAreaBottom" fmla="*/ 5140800 h 5400720"/>
            </a:gdLst>
            <a:ahLst/>
            <a:rect l="textAreaLeft" t="textAreaTop" r="textAreaRight" b="textAreaBottom"/>
            <a:pathLst>
              <a:path w="21600" h="21890">
                <a:moveTo>
                  <a:pt x="3600" y="0"/>
                </a:moveTo>
                <a:arcTo wR="3600" hR="3600" stAng="16200000" swAng="-5400000"/>
                <a:lnTo>
                  <a:pt x="0" y="18290"/>
                </a:lnTo>
                <a:arcTo wR="3600" hR="3600" stAng="10800000" swAng="-5400000"/>
                <a:lnTo>
                  <a:pt x="18000" y="218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 rot="5400000">
            <a:off x="78480" y="3097800"/>
            <a:ext cx="410364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ccccff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ÍNDICE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6699ff"/>
                  </a:gs>
                  <a:gs pos="50000">
                    <a:srgbClr val="ccccff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  <p:transition spd="med">
    <p:push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4"/>
          <p:cNvSpPr/>
          <p:nvPr/>
        </p:nvSpPr>
        <p:spPr>
          <a:xfrm>
            <a:off x="3059280" y="2492280"/>
            <a:ext cx="57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ampimet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6377400" y="500688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Microscopio endoteli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6735960" y="45752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opografía corne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7311240" y="2990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berromet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Text Box 8"/>
          <p:cNvSpPr/>
          <p:nvPr/>
        </p:nvSpPr>
        <p:spPr>
          <a:xfrm>
            <a:off x="7382880" y="35733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aquimet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Text Box 9"/>
          <p:cNvSpPr/>
          <p:nvPr/>
        </p:nvSpPr>
        <p:spPr>
          <a:xfrm>
            <a:off x="3132000" y="206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cografía/Biomet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2" name="Text Box 10"/>
          <p:cNvSpPr/>
          <p:nvPr/>
        </p:nvSpPr>
        <p:spPr>
          <a:xfrm>
            <a:off x="3276720" y="98100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est de sensibilidad al contras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Text Box 11"/>
          <p:cNvSpPr/>
          <p:nvPr/>
        </p:nvSpPr>
        <p:spPr>
          <a:xfrm>
            <a:off x="313200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est de alteración del col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Text Box 12"/>
          <p:cNvSpPr/>
          <p:nvPr/>
        </p:nvSpPr>
        <p:spPr>
          <a:xfrm>
            <a:off x="3930840" y="47628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AM (Medición de la agudeza potencial visual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Text Box 13"/>
          <p:cNvSpPr/>
          <p:nvPr/>
        </p:nvSpPr>
        <p:spPr>
          <a:xfrm>
            <a:off x="4601160" y="55166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(TCO) Tomografía de coherencia optic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3851280" y="41418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Retinografí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Text Box 15"/>
          <p:cNvSpPr/>
          <p:nvPr/>
        </p:nvSpPr>
        <p:spPr>
          <a:xfrm>
            <a:off x="3858480" y="6014880"/>
            <a:ext cx="49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ngliografía con fluorescenia y con indocianin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WordArt 17"/>
          <p:cNvSpPr txBox="1"/>
          <p:nvPr/>
        </p:nvSpPr>
        <p:spPr>
          <a:xfrm>
            <a:off x="1403280" y="2852640"/>
            <a:ext cx="36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PRUEBAS DE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DIAGNÓSTIC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699" name="Picture 16" descr="eye_chart_magnify_glass_md_wht"/>
          <p:cNvPicPr/>
          <p:nvPr/>
        </p:nvPicPr>
        <p:blipFill>
          <a:blip r:embed="rId1"/>
          <a:stretch/>
        </p:blipFill>
        <p:spPr>
          <a:xfrm>
            <a:off x="179280" y="54936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5" dur="indefinite" restart="never" nodeType="tmRoot">
          <p:childTnLst>
            <p:seq>
              <p:cTn id="3056" dur="indefinite" nodeType="mainSeq">
                <p:childTnLst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3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6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7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8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3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3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3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5"/>
          <p:cNvSpPr/>
          <p:nvPr/>
        </p:nvSpPr>
        <p:spPr>
          <a:xfrm>
            <a:off x="1674360" y="3736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Médi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WordArt 8"/>
          <p:cNvSpPr txBox="1"/>
          <p:nvPr/>
        </p:nvSpPr>
        <p:spPr>
          <a:xfrm>
            <a:off x="2411280" y="33336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PERSONAL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324000" y="1484280"/>
            <a:ext cx="1114200" cy="429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  <a:ea typeface="Arial"/>
              </a:rPr>
              <a:t>Médic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250920" y="2924280"/>
            <a:ext cx="2663640" cy="429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  <a:ea typeface="Arial"/>
              </a:rPr>
              <a:t>Auxiliares de clínic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Text Box 11"/>
          <p:cNvSpPr/>
          <p:nvPr/>
        </p:nvSpPr>
        <p:spPr>
          <a:xfrm>
            <a:off x="250920" y="4365720"/>
            <a:ext cx="6192720" cy="4291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aeaea"/>
                </a:solidFill>
                <a:latin typeface="Arial"/>
                <a:ea typeface="Arial"/>
              </a:rPr>
              <a:t>Área de Calidad, Prevención y Medio ambi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Text Box 12"/>
          <p:cNvSpPr/>
          <p:nvPr/>
        </p:nvSpPr>
        <p:spPr>
          <a:xfrm>
            <a:off x="395280" y="5300640"/>
            <a:ext cx="2087640" cy="42912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Arial"/>
                <a:ea typeface="Arial"/>
              </a:rPr>
              <a:t>Mantenimient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Text Box 14"/>
          <p:cNvSpPr/>
          <p:nvPr/>
        </p:nvSpPr>
        <p:spPr>
          <a:xfrm>
            <a:off x="1983240" y="1125360"/>
            <a:ext cx="28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0 </a:t>
            </a:r>
            <a:r>
              <a:rPr b="0" lang="pt-BR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Médicos oftalmólog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6     </a:t>
            </a:r>
            <a:r>
              <a:rPr b="0" lang="pt-BR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Médicos de famil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5  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Optometris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6  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DU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7" name="AutoShape 15"/>
          <p:cNvSpPr/>
          <p:nvPr/>
        </p:nvSpPr>
        <p:spPr>
          <a:xfrm>
            <a:off x="3276720" y="2276640"/>
            <a:ext cx="287280" cy="180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3564000" y="22050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Gestión de teléfono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2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Gestión de ci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3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Gestión de usuarios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                        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6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Auxiliares de recep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4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Auxiliares consultas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2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Auxiliares de plan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6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Auxiliares de quirófan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9" name="AutoShape 18"/>
          <p:cNvSpPr/>
          <p:nvPr/>
        </p:nvSpPr>
        <p:spPr>
          <a:xfrm>
            <a:off x="1692360" y="1197000"/>
            <a:ext cx="215640" cy="1079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0" name="Line 19"/>
          <p:cNvSpPr/>
          <p:nvPr/>
        </p:nvSpPr>
        <p:spPr>
          <a:xfrm>
            <a:off x="6516720" y="4581360"/>
            <a:ext cx="5032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Text Box 20"/>
          <p:cNvSpPr/>
          <p:nvPr/>
        </p:nvSpPr>
        <p:spPr>
          <a:xfrm>
            <a:off x="7044480" y="43657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1 Responsab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Text Box 21"/>
          <p:cNvSpPr/>
          <p:nvPr/>
        </p:nvSpPr>
        <p:spPr>
          <a:xfrm>
            <a:off x="2771640" y="4941720"/>
            <a:ext cx="390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Responsable de calida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8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Servicio de limpieza y lavande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Mantenimiento gener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Jardine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7"/>
          <p:cNvSpPr/>
          <p:nvPr/>
        </p:nvSpPr>
        <p:spPr>
          <a:xfrm>
            <a:off x="3232440" y="134460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5   Personal de administ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4" name="Text Box 8"/>
          <p:cNvSpPr/>
          <p:nvPr/>
        </p:nvSpPr>
        <p:spPr>
          <a:xfrm>
            <a:off x="510120" y="1071720"/>
            <a:ext cx="1875240" cy="76428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99"/>
                </a:solidFill>
                <a:latin typeface="Arial"/>
                <a:ea typeface="Arial"/>
              </a:rPr>
              <a:t>Directivos de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99"/>
                </a:solidFill>
                <a:latin typeface="Arial"/>
                <a:ea typeface="Arial"/>
              </a:rPr>
              <a:t>bajo nivel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2857680" y="928800"/>
            <a:ext cx="299880" cy="1231920"/>
          </a:xfrm>
          <a:custGeom>
            <a:avLst/>
            <a:gdLst>
              <a:gd name="textAreaLeft" fmla="*/ 191520 w 299880"/>
              <a:gd name="textAreaRight" fmla="*/ 300240 w 299880"/>
              <a:gd name="textAreaTop" fmla="*/ 33840 h 1231920"/>
              <a:gd name="textAreaBottom" fmla="*/ 1198080 h 123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1"/>
                  <a:pt x="10800" y="1902"/>
                </a:cubicBezTo>
                <a:lnTo>
                  <a:pt x="10800" y="8898"/>
                </a:lnTo>
                <a:cubicBezTo>
                  <a:pt x="10800" y="9849"/>
                  <a:pt x="5400" y="10800"/>
                  <a:pt x="0" y="10800"/>
                </a:cubicBezTo>
                <a:cubicBezTo>
                  <a:pt x="5400" y="10800"/>
                  <a:pt x="10800" y="11751"/>
                  <a:pt x="10800" y="12702"/>
                </a:cubicBezTo>
                <a:lnTo>
                  <a:pt x="10800" y="19698"/>
                </a:lnTo>
                <a:cubicBezTo>
                  <a:pt x="10800" y="206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6" name="Text Box 15"/>
          <p:cNvSpPr/>
          <p:nvPr/>
        </p:nvSpPr>
        <p:spPr>
          <a:xfrm>
            <a:off x="395280" y="4292640"/>
            <a:ext cx="3670200" cy="109944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Arial"/>
                <a:ea typeface="Arial"/>
              </a:rPr>
              <a:t>Personales independient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Arial"/>
                <a:ea typeface="Arial"/>
              </a:rPr>
              <a:t>que  prestan su servicio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Arial"/>
                <a:ea typeface="Arial"/>
              </a:rPr>
              <a:t>al centr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7" name="Text Box 16"/>
          <p:cNvSpPr/>
          <p:nvPr/>
        </p:nvSpPr>
        <p:spPr>
          <a:xfrm>
            <a:off x="4698000" y="3646440"/>
            <a:ext cx="444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5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Anestesis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nalista de laborato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labor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leg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8" name="AutoShape 17"/>
          <p:cNvSpPr/>
          <p:nvPr/>
        </p:nvSpPr>
        <p:spPr>
          <a:xfrm>
            <a:off x="4284720" y="3716280"/>
            <a:ext cx="287280" cy="172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9" name="7 Rectángulo"/>
          <p:cNvSpPr/>
          <p:nvPr/>
        </p:nvSpPr>
        <p:spPr>
          <a:xfrm>
            <a:off x="3143160" y="2500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Direct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AutoNum type="arabicPlain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Geren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Responsable departamento médic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8 CuadroTexto"/>
          <p:cNvSpPr/>
          <p:nvPr/>
        </p:nvSpPr>
        <p:spPr>
          <a:xfrm>
            <a:off x="652680" y="2786040"/>
            <a:ext cx="1860120" cy="429120"/>
          </a:xfrm>
          <a:prstGeom prst="rect">
            <a:avLst/>
          </a:prstGeom>
          <a:solidFill>
            <a:srgbClr val="7030a0"/>
          </a:solidFill>
          <a:ln w="0">
            <a:noFill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99"/>
                </a:solidFill>
                <a:latin typeface="Arial"/>
                <a:ea typeface="Arial"/>
              </a:rPr>
              <a:t>Alta direcció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9 Abrir llave"/>
          <p:cNvSpPr/>
          <p:nvPr/>
        </p:nvSpPr>
        <p:spPr>
          <a:xfrm>
            <a:off x="2857680" y="2643120"/>
            <a:ext cx="142560" cy="71460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714600"/>
              <a:gd name="textAreaBottom" fmla="*/ 711000 h 7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3 Gráfico"/>
          <p:cNvGraphicFramePr/>
          <p:nvPr/>
        </p:nvGraphicFramePr>
        <p:xfrm>
          <a:off x="1290600" y="2003400"/>
          <a:ext cx="689940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3" name="3 Gráfic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2003400"/>
                    <a:ext cx="68994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4 CuadroTexto"/>
          <p:cNvSpPr/>
          <p:nvPr/>
        </p:nvSpPr>
        <p:spPr>
          <a:xfrm>
            <a:off x="934920" y="814320"/>
            <a:ext cx="71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DIMENSIÓN HORIZONTAL Y VERTICAL DE LOS PUES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5 CuadroTexto"/>
          <p:cNvSpPr/>
          <p:nvPr/>
        </p:nvSpPr>
        <p:spPr>
          <a:xfrm>
            <a:off x="1461240" y="4572000"/>
            <a:ext cx="63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H,AV: Puestos de naturaleza profesional. 52 person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H,EV: Personal operativo de trabajo rutinario. 22 person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H,EV: Directivos de bajo nivel. 5 person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H,AV: Alta dirección. 3 person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6 CuadroTexto"/>
          <p:cNvSpPr/>
          <p:nvPr/>
        </p:nvSpPr>
        <p:spPr>
          <a:xfrm>
            <a:off x="1357200" y="1432080"/>
            <a:ext cx="671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specialización horizontal (EH): el trabajador centra su atención y sus esfuerzos en una tarea repetida a lo largo del tiemp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mpliación horizontal (AH): el trabajador se mueve continuamente de una tarea a otr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specialización vertical (EV): el trabajador realiza su trabajo sin preguntarse cómo ni por qué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mpliación vertical (AV): el trabajador controla cada aspecto del trabaj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7" name="7 CuadroTexto"/>
          <p:cNvSpPr/>
          <p:nvPr/>
        </p:nvSpPr>
        <p:spPr>
          <a:xfrm>
            <a:off x="1363320" y="714240"/>
            <a:ext cx="71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DIMENSIÓN HORIZONTAL Y VERTICAL DE LOS PUES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16"/>
          <p:cNvSpPr/>
          <p:nvPr/>
        </p:nvSpPr>
        <p:spPr>
          <a:xfrm>
            <a:off x="862560" y="1571760"/>
            <a:ext cx="4440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5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   Anestesis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nalista de laborato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labor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leg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9" name="6 CuadroTexto"/>
          <p:cNvSpPr/>
          <p:nvPr/>
        </p:nvSpPr>
        <p:spPr>
          <a:xfrm>
            <a:off x="5357880" y="164304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quellas personas que trabajan para la empresa pero que dependen funcional y jerárquicamente de otras empres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0" name="8 Llamada rectangular redondeada"/>
          <p:cNvSpPr/>
          <p:nvPr/>
        </p:nvSpPr>
        <p:spPr>
          <a:xfrm>
            <a:off x="5292720" y="1700280"/>
            <a:ext cx="2428920" cy="1785960"/>
          </a:xfrm>
          <a:prstGeom prst="wedgeRoundRectCallout">
            <a:avLst>
              <a:gd name="adj1" fmla="val -47643"/>
              <a:gd name="adj2" fmla="val -65500"/>
              <a:gd name="adj3" fmla="val 16667"/>
            </a:avLst>
          </a:pr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1" name="9 CuadroTexto"/>
          <p:cNvSpPr/>
          <p:nvPr/>
        </p:nvSpPr>
        <p:spPr>
          <a:xfrm>
            <a:off x="928800" y="442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os profesionales del hospital y la clínica también son subcontratados en otras organizaciones del mismo sector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2" name="6 CuadroTexto"/>
          <p:cNvSpPr/>
          <p:nvPr/>
        </p:nvSpPr>
        <p:spPr>
          <a:xfrm>
            <a:off x="938160" y="3571920"/>
            <a:ext cx="71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organización también tiene subcontratada los temas informátic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7 CuadroTexto"/>
          <p:cNvSpPr/>
          <p:nvPr/>
        </p:nvSpPr>
        <p:spPr>
          <a:xfrm>
            <a:off x="6719040" y="600084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Representado e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el organigram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4" name="9 Flecha derecha"/>
          <p:cNvSpPr/>
          <p:nvPr/>
        </p:nvSpPr>
        <p:spPr>
          <a:xfrm>
            <a:off x="6715080" y="5857920"/>
            <a:ext cx="1714680" cy="857160"/>
          </a:xfrm>
          <a:prstGeom prst="rightArrow">
            <a:avLst>
              <a:gd name="adj1" fmla="val 50000"/>
              <a:gd name="adj2" fmla="val 50010"/>
            </a:avLst>
          </a:prstGeom>
          <a:noFill/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WordArt 8"/>
          <p:cNvSpPr txBox="1"/>
          <p:nvPr/>
        </p:nvSpPr>
        <p:spPr>
          <a:xfrm>
            <a:off x="2124000" y="476280"/>
            <a:ext cx="460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OUTSOURCING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Line 11"/>
          <p:cNvSpPr/>
          <p:nvPr/>
        </p:nvSpPr>
        <p:spPr>
          <a:xfrm>
            <a:off x="4260960" y="1773360"/>
            <a:ext cx="0" cy="1224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7" name="Line 12"/>
          <p:cNvSpPr/>
          <p:nvPr/>
        </p:nvSpPr>
        <p:spPr>
          <a:xfrm>
            <a:off x="4241880" y="2205000"/>
            <a:ext cx="450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8" name="Text Box 127"/>
          <p:cNvSpPr/>
          <p:nvPr/>
        </p:nvSpPr>
        <p:spPr>
          <a:xfrm>
            <a:off x="1544760" y="2708280"/>
            <a:ext cx="137160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GERENCI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GERENTE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Rafael Agüer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9" name="Text Box 128"/>
          <p:cNvSpPr/>
          <p:nvPr/>
        </p:nvSpPr>
        <p:spPr>
          <a:xfrm>
            <a:off x="5132520" y="2708280"/>
            <a:ext cx="160020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DPTO. MÉDIC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RESP. DPTO. MÉDIC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Juan Manuel Labord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Line 126"/>
          <p:cNvSpPr/>
          <p:nvPr/>
        </p:nvSpPr>
        <p:spPr>
          <a:xfrm>
            <a:off x="1523880" y="2997360"/>
            <a:ext cx="518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Text Box 129"/>
          <p:cNvSpPr/>
          <p:nvPr/>
        </p:nvSpPr>
        <p:spPr>
          <a:xfrm>
            <a:off x="1547640" y="3716280"/>
            <a:ext cx="1513080" cy="44604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SUBDIREC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Amalia Sáez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Line 130"/>
          <p:cNvSpPr/>
          <p:nvPr/>
        </p:nvSpPr>
        <p:spPr>
          <a:xfrm>
            <a:off x="2244600" y="4178160"/>
            <a:ext cx="0" cy="11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3" name="Line 131"/>
          <p:cNvSpPr/>
          <p:nvPr/>
        </p:nvSpPr>
        <p:spPr>
          <a:xfrm>
            <a:off x="660240" y="4292640"/>
            <a:ext cx="2743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Line 132"/>
          <p:cNvSpPr/>
          <p:nvPr/>
        </p:nvSpPr>
        <p:spPr>
          <a:xfrm>
            <a:off x="660240" y="42926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Line 133"/>
          <p:cNvSpPr/>
          <p:nvPr/>
        </p:nvSpPr>
        <p:spPr>
          <a:xfrm>
            <a:off x="3397320" y="42926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Text Box 136"/>
          <p:cNvSpPr/>
          <p:nvPr/>
        </p:nvSpPr>
        <p:spPr>
          <a:xfrm rot="10800000">
            <a:off x="515520" y="5445000"/>
            <a:ext cx="36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Line 137"/>
          <p:cNvSpPr/>
          <p:nvPr/>
        </p:nvSpPr>
        <p:spPr>
          <a:xfrm>
            <a:off x="660240" y="4726080"/>
            <a:ext cx="0" cy="677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Line 138"/>
          <p:cNvSpPr/>
          <p:nvPr/>
        </p:nvSpPr>
        <p:spPr>
          <a:xfrm flipH="1">
            <a:off x="659880" y="494172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Text Box 139"/>
          <p:cNvSpPr/>
          <p:nvPr/>
        </p:nvSpPr>
        <p:spPr>
          <a:xfrm>
            <a:off x="2771640" y="4508640"/>
            <a:ext cx="115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MANTENIMIEN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Belén C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0" name="Line 141"/>
          <p:cNvSpPr/>
          <p:nvPr/>
        </p:nvSpPr>
        <p:spPr>
          <a:xfrm>
            <a:off x="2244600" y="3500280"/>
            <a:ext cx="0" cy="187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1" name="Line 142"/>
          <p:cNvSpPr/>
          <p:nvPr/>
        </p:nvSpPr>
        <p:spPr>
          <a:xfrm>
            <a:off x="3311640" y="487368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Line 143"/>
          <p:cNvSpPr/>
          <p:nvPr/>
        </p:nvSpPr>
        <p:spPr>
          <a:xfrm>
            <a:off x="1523880" y="5229360"/>
            <a:ext cx="2448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Line 144"/>
          <p:cNvSpPr/>
          <p:nvPr/>
        </p:nvSpPr>
        <p:spPr>
          <a:xfrm>
            <a:off x="1523880" y="522936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Line 145"/>
          <p:cNvSpPr/>
          <p:nvPr/>
        </p:nvSpPr>
        <p:spPr>
          <a:xfrm>
            <a:off x="1954080" y="5229360"/>
            <a:ext cx="18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Line 146"/>
          <p:cNvSpPr/>
          <p:nvPr/>
        </p:nvSpPr>
        <p:spPr>
          <a:xfrm>
            <a:off x="3033720" y="5229360"/>
            <a:ext cx="144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Line 147"/>
          <p:cNvSpPr/>
          <p:nvPr/>
        </p:nvSpPr>
        <p:spPr>
          <a:xfrm>
            <a:off x="2457360" y="5229360"/>
            <a:ext cx="18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Line 148"/>
          <p:cNvSpPr/>
          <p:nvPr/>
        </p:nvSpPr>
        <p:spPr>
          <a:xfrm>
            <a:off x="3971880" y="5877000"/>
            <a:ext cx="0" cy="288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8" name="Line 155"/>
          <p:cNvSpPr/>
          <p:nvPr/>
        </p:nvSpPr>
        <p:spPr>
          <a:xfrm>
            <a:off x="3970440" y="522936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Line 156"/>
          <p:cNvSpPr/>
          <p:nvPr/>
        </p:nvSpPr>
        <p:spPr>
          <a:xfrm>
            <a:off x="6708600" y="3068640"/>
            <a:ext cx="1144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Line 157"/>
          <p:cNvSpPr/>
          <p:nvPr/>
        </p:nvSpPr>
        <p:spPr>
          <a:xfrm flipV="1">
            <a:off x="6853320" y="2349360"/>
            <a:ext cx="0" cy="9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Line 158"/>
          <p:cNvSpPr/>
          <p:nvPr/>
        </p:nvSpPr>
        <p:spPr>
          <a:xfrm>
            <a:off x="6853320" y="234936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Line 159"/>
          <p:cNvSpPr/>
          <p:nvPr/>
        </p:nvSpPr>
        <p:spPr>
          <a:xfrm>
            <a:off x="6853320" y="278136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Line 160"/>
          <p:cNvSpPr/>
          <p:nvPr/>
        </p:nvSpPr>
        <p:spPr>
          <a:xfrm>
            <a:off x="6853320" y="328464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Text Box 162"/>
          <p:cNvSpPr/>
          <p:nvPr/>
        </p:nvSpPr>
        <p:spPr>
          <a:xfrm>
            <a:off x="7093080" y="2637000"/>
            <a:ext cx="12571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5" name="Text Box 164"/>
          <p:cNvSpPr/>
          <p:nvPr/>
        </p:nvSpPr>
        <p:spPr>
          <a:xfrm>
            <a:off x="5005440" y="4437000"/>
            <a:ext cx="1127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6" name="Text Box 167"/>
          <p:cNvSpPr/>
          <p:nvPr/>
        </p:nvSpPr>
        <p:spPr>
          <a:xfrm>
            <a:off x="7020000" y="3645000"/>
            <a:ext cx="1371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MEDICOS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7" name="Text Box 168"/>
          <p:cNvSpPr/>
          <p:nvPr/>
        </p:nvSpPr>
        <p:spPr>
          <a:xfrm>
            <a:off x="5435640" y="3573360"/>
            <a:ext cx="1143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OFTALMÓLOG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8" name="Line 169"/>
          <p:cNvSpPr/>
          <p:nvPr/>
        </p:nvSpPr>
        <p:spPr>
          <a:xfrm>
            <a:off x="5916600" y="3459240"/>
            <a:ext cx="0" cy="114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9" name="Line 170"/>
          <p:cNvSpPr/>
          <p:nvPr/>
        </p:nvSpPr>
        <p:spPr>
          <a:xfrm>
            <a:off x="5484960" y="4076640"/>
            <a:ext cx="2341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0" name="Line 171"/>
          <p:cNvSpPr/>
          <p:nvPr/>
        </p:nvSpPr>
        <p:spPr>
          <a:xfrm>
            <a:off x="5484960" y="4076640"/>
            <a:ext cx="0" cy="34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1" name="Line 172"/>
          <p:cNvSpPr/>
          <p:nvPr/>
        </p:nvSpPr>
        <p:spPr>
          <a:xfrm>
            <a:off x="7790040" y="4076640"/>
            <a:ext cx="0" cy="34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2" name="Line 173"/>
          <p:cNvSpPr/>
          <p:nvPr/>
        </p:nvSpPr>
        <p:spPr>
          <a:xfrm>
            <a:off x="6781680" y="4076640"/>
            <a:ext cx="0" cy="343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3" name="Line 174"/>
          <p:cNvSpPr/>
          <p:nvPr/>
        </p:nvSpPr>
        <p:spPr>
          <a:xfrm>
            <a:off x="6564240" y="378936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Line 175"/>
          <p:cNvSpPr/>
          <p:nvPr/>
        </p:nvSpPr>
        <p:spPr>
          <a:xfrm>
            <a:off x="5989680" y="3933720"/>
            <a:ext cx="0" cy="11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5" name="Line 176"/>
          <p:cNvSpPr/>
          <p:nvPr/>
        </p:nvSpPr>
        <p:spPr>
          <a:xfrm>
            <a:off x="2892600" y="3284640"/>
            <a:ext cx="1368360" cy="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6" name="Line 177"/>
          <p:cNvSpPr/>
          <p:nvPr/>
        </p:nvSpPr>
        <p:spPr>
          <a:xfrm>
            <a:off x="4260960" y="3284640"/>
            <a:ext cx="0" cy="45720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Line 178"/>
          <p:cNvSpPr/>
          <p:nvPr/>
        </p:nvSpPr>
        <p:spPr>
          <a:xfrm>
            <a:off x="4260960" y="3716280"/>
            <a:ext cx="1152360" cy="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8" name="Line 179"/>
          <p:cNvSpPr/>
          <p:nvPr/>
        </p:nvSpPr>
        <p:spPr>
          <a:xfrm>
            <a:off x="4116240" y="4653000"/>
            <a:ext cx="865440" cy="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9" name="Line 180"/>
          <p:cNvSpPr/>
          <p:nvPr/>
        </p:nvSpPr>
        <p:spPr>
          <a:xfrm>
            <a:off x="4116240" y="4653000"/>
            <a:ext cx="0" cy="79992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Line 181"/>
          <p:cNvSpPr/>
          <p:nvPr/>
        </p:nvSpPr>
        <p:spPr>
          <a:xfrm>
            <a:off x="8292960" y="4797360"/>
            <a:ext cx="0" cy="432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1" name="Line 182"/>
          <p:cNvSpPr/>
          <p:nvPr/>
        </p:nvSpPr>
        <p:spPr>
          <a:xfrm>
            <a:off x="7284960" y="5229360"/>
            <a:ext cx="1368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2" name="Line 183"/>
          <p:cNvSpPr/>
          <p:nvPr/>
        </p:nvSpPr>
        <p:spPr>
          <a:xfrm>
            <a:off x="6829560" y="4871880"/>
            <a:ext cx="0" cy="57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Line 184"/>
          <p:cNvSpPr/>
          <p:nvPr/>
        </p:nvSpPr>
        <p:spPr>
          <a:xfrm>
            <a:off x="548496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4" name="Line 185"/>
          <p:cNvSpPr/>
          <p:nvPr/>
        </p:nvSpPr>
        <p:spPr>
          <a:xfrm>
            <a:off x="5845320" y="52880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5" name="Line 186"/>
          <p:cNvSpPr/>
          <p:nvPr/>
        </p:nvSpPr>
        <p:spPr>
          <a:xfrm>
            <a:off x="6348240" y="52880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6" name="Line 187"/>
          <p:cNvSpPr/>
          <p:nvPr/>
        </p:nvSpPr>
        <p:spPr>
          <a:xfrm>
            <a:off x="5413320" y="52880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7" name="Line 188"/>
          <p:cNvSpPr/>
          <p:nvPr/>
        </p:nvSpPr>
        <p:spPr>
          <a:xfrm>
            <a:off x="4981680" y="528804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8" name="Line 189"/>
          <p:cNvSpPr/>
          <p:nvPr/>
        </p:nvSpPr>
        <p:spPr>
          <a:xfrm>
            <a:off x="7716960" y="5229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9" name="Line 190"/>
          <p:cNvSpPr/>
          <p:nvPr/>
        </p:nvSpPr>
        <p:spPr>
          <a:xfrm>
            <a:off x="8653320" y="5229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0" name="Line 191"/>
          <p:cNvSpPr/>
          <p:nvPr/>
        </p:nvSpPr>
        <p:spPr>
          <a:xfrm>
            <a:off x="7284960" y="5229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Line 192"/>
          <p:cNvSpPr/>
          <p:nvPr/>
        </p:nvSpPr>
        <p:spPr>
          <a:xfrm>
            <a:off x="4260960" y="5013360"/>
            <a:ext cx="3898800" cy="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2" name="Line 193"/>
          <p:cNvSpPr/>
          <p:nvPr/>
        </p:nvSpPr>
        <p:spPr>
          <a:xfrm>
            <a:off x="8148600" y="4797360"/>
            <a:ext cx="0" cy="21600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3" name="Line 203"/>
          <p:cNvSpPr/>
          <p:nvPr/>
        </p:nvSpPr>
        <p:spPr>
          <a:xfrm>
            <a:off x="4981680" y="5300640"/>
            <a:ext cx="1366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4" name="Line 204"/>
          <p:cNvSpPr/>
          <p:nvPr/>
        </p:nvSpPr>
        <p:spPr>
          <a:xfrm>
            <a:off x="4260960" y="5013360"/>
            <a:ext cx="0" cy="431640"/>
          </a:xfrm>
          <a:prstGeom prst="line">
            <a:avLst/>
          </a:prstGeom>
          <a:ln cap="rnd" w="936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5" name="Line 205"/>
          <p:cNvSpPr/>
          <p:nvPr/>
        </p:nvSpPr>
        <p:spPr>
          <a:xfrm>
            <a:off x="8172360" y="5229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796" name="87 Conector recto de flecha"/>
          <p:cNvCxnSpPr/>
          <p:nvPr/>
        </p:nvCxnSpPr>
        <p:spPr>
          <a:xfrm flipH="1" flipV="1">
            <a:off x="6714360" y="1213920"/>
            <a:ext cx="72360" cy="2572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7" name="88 CuadroTexto"/>
          <p:cNvSpPr/>
          <p:nvPr/>
        </p:nvSpPr>
        <p:spPr>
          <a:xfrm>
            <a:off x="6002280" y="8445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5     Anestesis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798" name="90 Conector recto de flecha"/>
          <p:cNvCxnSpPr/>
          <p:nvPr/>
        </p:nvCxnSpPr>
        <p:spPr>
          <a:xfrm flipV="1">
            <a:off x="642960" y="1499400"/>
            <a:ext cx="2160" cy="1500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9" name="91 CuadroTexto"/>
          <p:cNvSpPr/>
          <p:nvPr/>
        </p:nvSpPr>
        <p:spPr>
          <a:xfrm>
            <a:off x="142920" y="31680"/>
            <a:ext cx="449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sesor fis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1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sesor labor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1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sesor leg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sesor de comunicación y market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sesor especialista en electromedicin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0" name="93 Conector recto"/>
          <p:cNvSpPr/>
          <p:nvPr/>
        </p:nvSpPr>
        <p:spPr>
          <a:xfrm flipV="1">
            <a:off x="642960" y="2928960"/>
            <a:ext cx="78588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1" name="Text Box 161"/>
          <p:cNvSpPr/>
          <p:nvPr/>
        </p:nvSpPr>
        <p:spPr>
          <a:xfrm>
            <a:off x="7093080" y="3141720"/>
            <a:ext cx="12571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2" name="Text Box 9"/>
          <p:cNvSpPr/>
          <p:nvPr/>
        </p:nvSpPr>
        <p:spPr>
          <a:xfrm>
            <a:off x="3635280" y="1484280"/>
            <a:ext cx="1150920" cy="27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DIREC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3" name="Text Box 10"/>
          <p:cNvSpPr/>
          <p:nvPr/>
        </p:nvSpPr>
        <p:spPr>
          <a:xfrm>
            <a:off x="4643280" y="1989000"/>
            <a:ext cx="1224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DPTO. CALIDA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Belén Can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4" name="Text Box 163"/>
          <p:cNvSpPr/>
          <p:nvPr/>
        </p:nvSpPr>
        <p:spPr>
          <a:xfrm>
            <a:off x="7093080" y="2133720"/>
            <a:ext cx="12571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5" name="Text Box 136"/>
          <p:cNvSpPr/>
          <p:nvPr/>
        </p:nvSpPr>
        <p:spPr>
          <a:xfrm rot="10800000">
            <a:off x="515520" y="5445000"/>
            <a:ext cx="36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6" name="Text Box 134"/>
          <p:cNvSpPr/>
          <p:nvPr/>
        </p:nvSpPr>
        <p:spPr>
          <a:xfrm>
            <a:off x="179280" y="4508640"/>
            <a:ext cx="15321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  <a:ea typeface="SimSun"/>
              </a:rPr>
              <a:t>ADMINISTR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7" name="Text Box 135"/>
          <p:cNvSpPr/>
          <p:nvPr/>
        </p:nvSpPr>
        <p:spPr>
          <a:xfrm>
            <a:off x="900000" y="486900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eaeaea"/>
                </a:solidFill>
                <a:latin typeface="Times New Roman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8" name="Text Box 149"/>
          <p:cNvSpPr/>
          <p:nvPr/>
        </p:nvSpPr>
        <p:spPr>
          <a:xfrm rot="10800000">
            <a:off x="1332000" y="5445000"/>
            <a:ext cx="3585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9" name="Text Box 150"/>
          <p:cNvSpPr/>
          <p:nvPr/>
        </p:nvSpPr>
        <p:spPr>
          <a:xfrm rot="10800000">
            <a:off x="1835280" y="5445000"/>
            <a:ext cx="288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0" name="Text Box 151"/>
          <p:cNvSpPr/>
          <p:nvPr/>
        </p:nvSpPr>
        <p:spPr>
          <a:xfrm rot="10800000">
            <a:off x="2331720" y="5445000"/>
            <a:ext cx="368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1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2" name="Text Box 153"/>
          <p:cNvSpPr/>
          <p:nvPr/>
        </p:nvSpPr>
        <p:spPr>
          <a:xfrm>
            <a:off x="3348000" y="537372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3" name="Text Box 154"/>
          <p:cNvSpPr/>
          <p:nvPr/>
        </p:nvSpPr>
        <p:spPr>
          <a:xfrm>
            <a:off x="3419640" y="6165720"/>
            <a:ext cx="1028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4" name="Text Box 165"/>
          <p:cNvSpPr/>
          <p:nvPr/>
        </p:nvSpPr>
        <p:spPr>
          <a:xfrm>
            <a:off x="6156360" y="4437000"/>
            <a:ext cx="111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5" name="Text Box 166"/>
          <p:cNvSpPr/>
          <p:nvPr/>
        </p:nvSpPr>
        <p:spPr>
          <a:xfrm>
            <a:off x="7451640" y="4437000"/>
            <a:ext cx="1270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Text Box 199"/>
          <p:cNvSpPr/>
          <p:nvPr/>
        </p:nvSpPr>
        <p:spPr>
          <a:xfrm rot="10800000">
            <a:off x="485928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7" name="Text Box 198"/>
          <p:cNvSpPr/>
          <p:nvPr/>
        </p:nvSpPr>
        <p:spPr>
          <a:xfrm rot="10800000">
            <a:off x="5219280" y="5516280"/>
            <a:ext cx="3603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8" name="Text Box 197"/>
          <p:cNvSpPr/>
          <p:nvPr/>
        </p:nvSpPr>
        <p:spPr>
          <a:xfrm rot="10800000">
            <a:off x="5651640" y="5516280"/>
            <a:ext cx="4572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Text Box 196"/>
          <p:cNvSpPr/>
          <p:nvPr/>
        </p:nvSpPr>
        <p:spPr>
          <a:xfrm rot="10800000">
            <a:off x="6156000" y="5516280"/>
            <a:ext cx="3618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0" name="Text Box 195"/>
          <p:cNvSpPr/>
          <p:nvPr/>
        </p:nvSpPr>
        <p:spPr>
          <a:xfrm rot="10800000">
            <a:off x="6732720" y="5495760"/>
            <a:ext cx="28728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1" name="Text Box 194"/>
          <p:cNvSpPr/>
          <p:nvPr/>
        </p:nvSpPr>
        <p:spPr>
          <a:xfrm rot="10800000">
            <a:off x="8027640" y="5516280"/>
            <a:ext cx="3589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AUX. QUIRÓF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2" name="Text Box 200"/>
          <p:cNvSpPr/>
          <p:nvPr/>
        </p:nvSpPr>
        <p:spPr>
          <a:xfrm rot="10800000">
            <a:off x="7596360" y="5516280"/>
            <a:ext cx="28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AUX. PLANT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3" name="Text Box 201"/>
          <p:cNvSpPr/>
          <p:nvPr/>
        </p:nvSpPr>
        <p:spPr>
          <a:xfrm rot="10800000">
            <a:off x="8532720" y="5516280"/>
            <a:ext cx="2779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DU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4" name="Text Box 202"/>
          <p:cNvSpPr/>
          <p:nvPr/>
        </p:nvSpPr>
        <p:spPr>
          <a:xfrm rot="10800000">
            <a:off x="7164360" y="5516280"/>
            <a:ext cx="2872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eaeaea"/>
                </a:solidFill>
                <a:latin typeface="Times New Roman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4 CuadroTexto"/>
          <p:cNvSpPr/>
          <p:nvPr/>
        </p:nvSpPr>
        <p:spPr>
          <a:xfrm>
            <a:off x="2444040" y="1071720"/>
            <a:ext cx="43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¿Cómo es el entorno de la empresa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6" name="5 CuadroTexto"/>
          <p:cNvSpPr/>
          <p:nvPr/>
        </p:nvSpPr>
        <p:spPr>
          <a:xfrm>
            <a:off x="714240" y="171468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OMPLEJO: Porque la organización está expuesta a numerosos factores y necesita el uso frecuente de conocimientos sofisticados y de personas que puedan responder a estos camb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7" name="6 CuadroTexto"/>
          <p:cNvSpPr/>
          <p:nvPr/>
        </p:nvSpPr>
        <p:spPr>
          <a:xfrm>
            <a:off x="1285920" y="270972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IERTO: Es un servicio necesario para la población el cual no se ve afectado por factores extern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8" name="7 CuadroTexto"/>
          <p:cNvSpPr/>
          <p:nvPr/>
        </p:nvSpPr>
        <p:spPr>
          <a:xfrm>
            <a:off x="1928880" y="342900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LÁCIDO: El nivel de competitividad no es muy elevado y apenas existen relaciones conflictivas con los consumido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9" name="WordArt 8"/>
          <p:cNvSpPr txBox="1"/>
          <p:nvPr/>
        </p:nvSpPr>
        <p:spPr>
          <a:xfrm>
            <a:off x="1763640" y="476280"/>
            <a:ext cx="561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4 CuadroTexto"/>
          <p:cNvSpPr/>
          <p:nvPr/>
        </p:nvSpPr>
        <p:spPr>
          <a:xfrm>
            <a:off x="3071880" y="7858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ompetitividad en clínicas oftalmológicas de córdob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31" name="6 Gráfico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7858080" cy="4857840"/>
          </a:xfrm>
          <a:prstGeom prst="rect">
            <a:avLst/>
          </a:prstGeom>
          <a:ln w="0">
            <a:noFill/>
          </a:ln>
        </p:spPr>
      </p:pic>
      <p:sp>
        <p:nvSpPr>
          <p:cNvPr id="832" name="WordArt 8"/>
          <p:cNvSpPr txBox="1"/>
          <p:nvPr/>
        </p:nvSpPr>
        <p:spPr>
          <a:xfrm>
            <a:off x="1692360" y="189000"/>
            <a:ext cx="56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3 CuadroTexto"/>
          <p:cNvSpPr/>
          <p:nvPr/>
        </p:nvSpPr>
        <p:spPr>
          <a:xfrm>
            <a:off x="510840" y="3286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ROVEEDO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4" name="3 CuadroTexto"/>
          <p:cNvSpPr/>
          <p:nvPr/>
        </p:nvSpPr>
        <p:spPr>
          <a:xfrm>
            <a:off x="3753720" y="5072040"/>
            <a:ext cx="47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Necesidades básicas: Agua, Electricidad, etc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5" name="4 CuadroTexto"/>
          <p:cNvSpPr/>
          <p:nvPr/>
        </p:nvSpPr>
        <p:spPr>
          <a:xfrm>
            <a:off x="3726000" y="1785960"/>
            <a:ext cx="4496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Material fungible: jeringuillas, alcohol, etc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roductos farmacéutic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ire acondicionad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rvicios de mantenimien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Gases medicinales, anestesia, suer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ema específico: lentes, viscolásticos, etc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836" name="6 Conector recto de flecha"/>
          <p:cNvCxnSpPr/>
          <p:nvPr/>
        </p:nvCxnSpPr>
        <p:spPr>
          <a:xfrm flipV="1">
            <a:off x="2571840" y="2214000"/>
            <a:ext cx="1000800" cy="121500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cxnSp>
        <p:nvCxnSpPr>
          <p:cNvPr id="837" name="8 Conector recto de flecha"/>
          <p:cNvCxnSpPr/>
          <p:nvPr/>
        </p:nvCxnSpPr>
        <p:spPr>
          <a:xfrm flipV="1">
            <a:off x="2571840" y="2642400"/>
            <a:ext cx="1072080" cy="78660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cxnSp>
        <p:nvCxnSpPr>
          <p:cNvPr id="838" name="10 Conector recto de flecha"/>
          <p:cNvCxnSpPr/>
          <p:nvPr/>
        </p:nvCxnSpPr>
        <p:spPr>
          <a:xfrm flipV="1">
            <a:off x="2571480" y="3071520"/>
            <a:ext cx="1215000" cy="35784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cxnSp>
        <p:nvCxnSpPr>
          <p:cNvPr id="839" name="12 Conector recto de flecha"/>
          <p:cNvCxnSpPr/>
          <p:nvPr/>
        </p:nvCxnSpPr>
        <p:spPr>
          <a:xfrm>
            <a:off x="2500200" y="3428640"/>
            <a:ext cx="1215360" cy="21492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cxnSp>
        <p:nvCxnSpPr>
          <p:cNvPr id="840" name="14 Conector recto de flecha"/>
          <p:cNvCxnSpPr/>
          <p:nvPr/>
        </p:nvCxnSpPr>
        <p:spPr>
          <a:xfrm>
            <a:off x="2571480" y="3429000"/>
            <a:ext cx="1143720" cy="71496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cxnSp>
        <p:nvCxnSpPr>
          <p:cNvPr id="841" name="18 Conector recto de flecha"/>
          <p:cNvCxnSpPr/>
          <p:nvPr/>
        </p:nvCxnSpPr>
        <p:spPr>
          <a:xfrm>
            <a:off x="2570760" y="3429000"/>
            <a:ext cx="1143720" cy="128664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cxnSp>
        <p:nvCxnSpPr>
          <p:cNvPr id="842" name="15 Conector recto de flecha"/>
          <p:cNvCxnSpPr/>
          <p:nvPr/>
        </p:nvCxnSpPr>
        <p:spPr>
          <a:xfrm>
            <a:off x="2571840" y="3428640"/>
            <a:ext cx="1072080" cy="1786680"/>
          </a:xfrm>
          <a:prstGeom prst="straightConnector1">
            <a:avLst/>
          </a:prstGeom>
          <a:ln w="9360">
            <a:solidFill>
              <a:srgbClr val="ccccff"/>
            </a:solidFill>
            <a:miter/>
            <a:tailEnd len="med" type="arrow" w="med"/>
          </a:ln>
        </p:spPr>
      </p:cxnSp>
      <p:sp>
        <p:nvSpPr>
          <p:cNvPr id="843" name="WordArt 8"/>
          <p:cNvSpPr txBox="1"/>
          <p:nvPr/>
        </p:nvSpPr>
        <p:spPr>
          <a:xfrm>
            <a:off x="1763640" y="333360"/>
            <a:ext cx="561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12"/>
          <p:cNvSpPr/>
          <p:nvPr/>
        </p:nvSpPr>
        <p:spPr>
          <a:xfrm>
            <a:off x="8172360" y="6308640"/>
            <a:ext cx="971640" cy="549360"/>
          </a:xfrm>
          <a:prstGeom prst="pie">
            <a:avLst/>
          </a:prstGeom>
          <a:solidFill>
            <a:srgbClr val="ff8b8b"/>
          </a:solidFill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971640" y="620640"/>
            <a:ext cx="7993080" cy="554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99ff"/>
              </a:gs>
              <a:gs pos="50000">
                <a:srgbClr val="006699"/>
              </a:gs>
              <a:gs pos="100000">
                <a:srgbClr val="6699ff"/>
              </a:gs>
            </a:gsLst>
            <a:lin ang="13500000"/>
          </a:gradFill>
          <a:ln w="9360">
            <a:solidFill>
              <a:srgbClr val="ccccff"/>
            </a:solidFill>
            <a:miter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2340000" y="692280"/>
            <a:ext cx="626436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>
                    <a:alphaModFix amt="90000"/>
                  </a:blip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Historia de la empresa</a:t>
            </a:r>
            <a:endParaRPr b="1" lang="en-US" sz="2400" spc="1" strike="noStrike">
              <a:ln w="0">
                <a:noFill/>
              </a:ln>
              <a:blipFill rotWithShape="0">
                <a:blip r:embed="rId2">
                  <a:alphaModFix amt="90000"/>
                </a:blip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48" name="6 CuadroTexto"/>
          <p:cNvSpPr/>
          <p:nvPr/>
        </p:nvSpPr>
        <p:spPr>
          <a:xfrm>
            <a:off x="1547640" y="1413000"/>
            <a:ext cx="685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Más de 20 años de experiencia en la vanguardia sanitaria andaluza han permitido a la Clínica de Oftalmología de Córdoba plantear los más importantes avances, dirigidos a la mejora asistencial a través de la innovación y la calidad de los servicios oftalmológicos. La búsqueda de la excelencia le ha llevado a proponer un moderno modelo de servicio sanitario que la consolida como referencia andaluza en el campo de la oftalmología, con la puesta en marcha de unas nuevas instalaciones divididas en 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dos áreas, la de consultas y la quirúrgica, denominadas respectivamente Instituto de Oftalmología La Arruzafa y Hospital La Arruzafa.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7 CuadroTexto"/>
          <p:cNvSpPr/>
          <p:nvPr/>
        </p:nvSpPr>
        <p:spPr>
          <a:xfrm>
            <a:off x="1619280" y="450864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Junta de Andalucía ha reconocido su trabajo con las acreditaciones para poder realizar transplantes de córnea, implante ocular de membrana amniótica o coriónica y extracción e implante ocular de esclera, siendo el único centro privado autorizado para ello en Andalucía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8187120" y="63752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Arial"/>
                <a:ea typeface="Arial"/>
              </a:rPr>
              <a:t>ÍNDIC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4 CuadroTexto"/>
          <p:cNvSpPr/>
          <p:nvPr/>
        </p:nvSpPr>
        <p:spPr>
          <a:xfrm>
            <a:off x="2528280" y="121428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ientes: grado de influencia en la empres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5" name="6 CuadroTexto"/>
          <p:cNvSpPr/>
          <p:nvPr/>
        </p:nvSpPr>
        <p:spPr>
          <a:xfrm>
            <a:off x="500040" y="250020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  <a:ea typeface="Arial"/>
              </a:rPr>
              <a:t>El hospital realiza una media de 15 operaciones diari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  <a:ea typeface="Arial"/>
              </a:rPr>
              <a:t>El prototipo de paciente es personas mayores, de 65-70 años, y niños con una edad inferior a 8 añ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  <a:ea typeface="Arial"/>
              </a:rPr>
              <a:t>La operación más solicitada es la referida a problemas de catarat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6" name="WordArt 8"/>
          <p:cNvSpPr txBox="1"/>
          <p:nvPr/>
        </p:nvSpPr>
        <p:spPr>
          <a:xfrm>
            <a:off x="1908000" y="40464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17 CuadroTexto"/>
          <p:cNvSpPr/>
          <p:nvPr/>
        </p:nvSpPr>
        <p:spPr>
          <a:xfrm>
            <a:off x="7500960" y="3076560"/>
            <a:ext cx="1428840" cy="9169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ientes que acuden al Hospita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8" name="4 CuadroTexto"/>
          <p:cNvSpPr/>
          <p:nvPr/>
        </p:nvSpPr>
        <p:spPr>
          <a:xfrm>
            <a:off x="2528280" y="121428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ientes: grado de influencia en la empres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49" name="5 Imagen" descr="mapa.bmp"/>
          <p:cNvPicPr/>
          <p:nvPr/>
        </p:nvPicPr>
        <p:blipFill>
          <a:blip r:embed="rId1"/>
          <a:stretch/>
        </p:blipFill>
        <p:spPr>
          <a:xfrm>
            <a:off x="428760" y="1714680"/>
            <a:ext cx="6900840" cy="4786200"/>
          </a:xfrm>
          <a:prstGeom prst="rect">
            <a:avLst/>
          </a:prstGeom>
          <a:ln w="0">
            <a:noFill/>
          </a:ln>
        </p:spPr>
      </p:pic>
      <p:sp>
        <p:nvSpPr>
          <p:cNvPr id="850" name="6 Multiplicar"/>
          <p:cNvSpPr/>
          <p:nvPr/>
        </p:nvSpPr>
        <p:spPr>
          <a:xfrm>
            <a:off x="3429000" y="4857840"/>
            <a:ext cx="35712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1" name="7 Multiplicar"/>
          <p:cNvSpPr/>
          <p:nvPr/>
        </p:nvSpPr>
        <p:spPr>
          <a:xfrm>
            <a:off x="4143240" y="4572000"/>
            <a:ext cx="35748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2" name="8 Multiplicar"/>
          <p:cNvSpPr/>
          <p:nvPr/>
        </p:nvSpPr>
        <p:spPr>
          <a:xfrm>
            <a:off x="4000680" y="528624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3" name="9 Multiplicar"/>
          <p:cNvSpPr/>
          <p:nvPr/>
        </p:nvSpPr>
        <p:spPr>
          <a:xfrm>
            <a:off x="2928960" y="5572080"/>
            <a:ext cx="35712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4" name="10 Multiplicar"/>
          <p:cNvSpPr/>
          <p:nvPr/>
        </p:nvSpPr>
        <p:spPr>
          <a:xfrm>
            <a:off x="3429000" y="528624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5" name="11 Multiplicar"/>
          <p:cNvSpPr/>
          <p:nvPr/>
        </p:nvSpPr>
        <p:spPr>
          <a:xfrm>
            <a:off x="2928960" y="478620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6" name="12 Multiplicar"/>
          <p:cNvSpPr/>
          <p:nvPr/>
        </p:nvSpPr>
        <p:spPr>
          <a:xfrm>
            <a:off x="3000240" y="5929200"/>
            <a:ext cx="35748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7" name="13 Multiplicar"/>
          <p:cNvSpPr/>
          <p:nvPr/>
        </p:nvSpPr>
        <p:spPr>
          <a:xfrm>
            <a:off x="3929040" y="3500280"/>
            <a:ext cx="35712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14 Multiplicar"/>
          <p:cNvSpPr/>
          <p:nvPr/>
        </p:nvSpPr>
        <p:spPr>
          <a:xfrm>
            <a:off x="3000240" y="4143240"/>
            <a:ext cx="357480" cy="35748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15 Multiplicar"/>
          <p:cNvSpPr/>
          <p:nvPr/>
        </p:nvSpPr>
        <p:spPr>
          <a:xfrm>
            <a:off x="3643200" y="4357800"/>
            <a:ext cx="35748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16 Multiplicar"/>
          <p:cNvSpPr/>
          <p:nvPr/>
        </p:nvSpPr>
        <p:spPr>
          <a:xfrm>
            <a:off x="7572240" y="3076560"/>
            <a:ext cx="35748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1" name="WordArt 8"/>
          <p:cNvSpPr txBox="1"/>
          <p:nvPr/>
        </p:nvSpPr>
        <p:spPr>
          <a:xfrm>
            <a:off x="1763640" y="476280"/>
            <a:ext cx="561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C:\Users\Manolo\etea\ORGANIZACION\Pirmamide_Córdoba.PNG"/>
          <p:cNvPicPr/>
          <p:nvPr/>
        </p:nvPicPr>
        <p:blipFill>
          <a:blip r:embed="rId1"/>
          <a:stretch/>
        </p:blipFill>
        <p:spPr>
          <a:xfrm>
            <a:off x="214200" y="2147760"/>
            <a:ext cx="8575920" cy="4210200"/>
          </a:xfrm>
          <a:prstGeom prst="rect">
            <a:avLst/>
          </a:prstGeom>
          <a:ln w="0">
            <a:noFill/>
          </a:ln>
        </p:spPr>
      </p:pic>
      <p:sp>
        <p:nvSpPr>
          <p:cNvPr id="863" name="5 CuadroTexto"/>
          <p:cNvSpPr/>
          <p:nvPr/>
        </p:nvSpPr>
        <p:spPr>
          <a:xfrm>
            <a:off x="2418120" y="1000080"/>
            <a:ext cx="36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IRÁMIDE DE POBLACIÓN 2008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ÓRDOB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4" name="WordArt 8"/>
          <p:cNvSpPr txBox="1"/>
          <p:nvPr/>
        </p:nvSpPr>
        <p:spPr>
          <a:xfrm>
            <a:off x="1763640" y="26028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1 Título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42056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 txBox="1"/>
          <p:nvPr/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La provincia de Córdoba tiene un área de 13.769 km². Su población asciende a los 797.785 habitantes (datos de </a:t>
            </a:r>
            <a:r>
              <a:rPr b="0" lang="es-E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2008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, de los cuales más del 40% vive en la capital. La densidad demográfica de la provincia es de 58,88 Hab./km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AutoShape 8"/>
          <p:cNvSpPr/>
          <p:nvPr/>
        </p:nvSpPr>
        <p:spPr>
          <a:xfrm>
            <a:off x="179280" y="260280"/>
            <a:ext cx="8785440" cy="6337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8" name="4 CuadroTexto"/>
          <p:cNvSpPr/>
          <p:nvPr/>
        </p:nvSpPr>
        <p:spPr>
          <a:xfrm>
            <a:off x="3279960" y="90792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Barreras de entr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9" name="5 CuadroTexto"/>
          <p:cNvSpPr/>
          <p:nvPr/>
        </p:nvSpPr>
        <p:spPr>
          <a:xfrm>
            <a:off x="116280" y="1557360"/>
            <a:ext cx="889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Necesitan un gran desarrollo del sistema sanitario públic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normativa es estricta con controles de calidad exhaustivos. Inspecciones sanitari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Desembolso de una gran invers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 requiere un personal muy cualificad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tecnología debe ser renovada constantement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 limita a clientes con problemas de vis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0" name="4 CuadroTexto"/>
          <p:cNvSpPr/>
          <p:nvPr/>
        </p:nvSpPr>
        <p:spPr>
          <a:xfrm>
            <a:off x="142920" y="482616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utorización del ayuntamiento (urbanísticamente licencia de apertura)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icencia sanitari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or ser clínica se exige normativa, para el aire acondicionado de los quirófanos, seguridad para incendios y tema eléctrico, más estricta que para otro negoci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WordArt 8"/>
          <p:cNvSpPr txBox="1"/>
          <p:nvPr/>
        </p:nvSpPr>
        <p:spPr>
          <a:xfrm>
            <a:off x="1763640" y="260280"/>
            <a:ext cx="561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L ENTORNO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4 CuadroTexto"/>
          <p:cNvSpPr/>
          <p:nvPr/>
        </p:nvSpPr>
        <p:spPr>
          <a:xfrm>
            <a:off x="1428840" y="4357800"/>
            <a:ext cx="635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ATRÓN ANALISTA SIN INNOVACIÓN: es una evolución de la estrategia defensiva cuya pretensión es moverse con nuevos productos o mercados después de que su viabilidad haya sido demostrada aunque su actividad siga centrándose en productos originales y tradiciona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3" name="5 CuadroTexto"/>
          <p:cNvSpPr/>
          <p:nvPr/>
        </p:nvSpPr>
        <p:spPr>
          <a:xfrm>
            <a:off x="714240" y="15717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empresa cuenta con la tecnología más sofisticada con respecto a las otras clínicas oftalmológicas de la provinci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4" name="6 CuadroTexto"/>
          <p:cNvSpPr/>
          <p:nvPr/>
        </p:nvSpPr>
        <p:spPr>
          <a:xfrm>
            <a:off x="2305080" y="300024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or lo que hay una estrategi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5" name="11 Flecha abajo"/>
          <p:cNvSpPr/>
          <p:nvPr/>
        </p:nvSpPr>
        <p:spPr>
          <a:xfrm>
            <a:off x="3059280" y="3429000"/>
            <a:ext cx="357120" cy="8571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006699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6" name="12 Menos"/>
          <p:cNvSpPr/>
          <p:nvPr/>
        </p:nvSpPr>
        <p:spPr>
          <a:xfrm rot="5400000">
            <a:off x="2682720" y="2220840"/>
            <a:ext cx="1035000" cy="714240"/>
          </a:xfrm>
          <a:prstGeom prst="pie">
            <a:avLst/>
          </a:prstGeom>
          <a:solidFill>
            <a:srgbClr val="006699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7" name="WordArt 8"/>
          <p:cNvSpPr txBox="1"/>
          <p:nvPr/>
        </p:nvSpPr>
        <p:spPr>
          <a:xfrm>
            <a:off x="1332000" y="476280"/>
            <a:ext cx="640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ESTRATEGI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3 CuadroTexto"/>
          <p:cNvSpPr/>
          <p:nvPr/>
        </p:nvSpPr>
        <p:spPr>
          <a:xfrm>
            <a:off x="500040" y="1643040"/>
            <a:ext cx="835812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Instituto de Oftalmología La Arruzafa</a:t>
            </a: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 y el </a:t>
            </a:r>
            <a:r>
              <a:rPr b="1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Hospital La Arruzafa cuenta</a:t>
            </a: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 con la última tecnología como el láser para la fotocoagulación retiniana, tratamiento de la retinopatía diabética, glaucoma,  trombosis, entre otros; láser YAG para capsulotomías, iridotomías, trabeculoplastias, láser de diodo transescleral y láser de diodo para la terapia fotodinámica en la degeneración macular asociada a la edad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También disponen del Sistema LADARVISION® CustomCornea®, última tecnología en términos de Calidad Visual.. </a:t>
            </a:r>
            <a:r>
              <a:rPr b="1" i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Este es el único equipo existente en la comunidad autónoma andaluza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En el campo del diagnóstico disponen de campímetro automatizado para el seguimiento del glaucoma (SWAP); P.A.M. para orientación de la rehabilitación visual después de una cirugía de catarata;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En el aspecto quirúrgico, el </a:t>
            </a:r>
            <a:r>
              <a:rPr b="1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Hospital La Arruzafa</a:t>
            </a: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 dispone de 4 quirófanos con todos los medios anestésicos para cirugía con anestesia local y general, microscopios quirúrgicos monitorizados con cámara incorporada, facoemulsificador para cirugía de catarata de pequeña incisión, vitreotomo de polo anterior y posterior para cirugía vitreorretiniana y todo tipo de material e instrumental para realizar cualquier cirugía oftalmológica como glaucoma, estrabismo, párpados, órbita, vías lagrimales y córnea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r>
              <a:rPr b="0" lang="es-ES_tradnl" sz="1400" spc="-1" strike="noStrike">
                <a:solidFill>
                  <a:srgbClr val="eaeaea"/>
                </a:solidFill>
                <a:latin typeface="Arial"/>
                <a:ea typeface="Arial"/>
              </a:rPr>
              <a:t>Se practican queratoplastias (transplantes de córnea), de membrana amniótica y esclera, siendo </a:t>
            </a:r>
            <a:r>
              <a:rPr b="1" i="1" lang="es-ES_tradnl" sz="1600" spc="-1" strike="noStrike">
                <a:solidFill>
                  <a:srgbClr val="eaeaea"/>
                </a:solidFill>
                <a:latin typeface="Arial"/>
                <a:ea typeface="Arial"/>
              </a:rPr>
              <a:t>la única clínica privada acreditada para ello por la Junta de Andalucía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9" name="WordArt 8"/>
          <p:cNvSpPr txBox="1"/>
          <p:nvPr/>
        </p:nvSpPr>
        <p:spPr>
          <a:xfrm>
            <a:off x="1476360" y="476280"/>
            <a:ext cx="626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DE LA TECNOLOGÍ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2"/>
          <p:cNvSpPr/>
          <p:nvPr/>
        </p:nvSpPr>
        <p:spPr>
          <a:xfrm>
            <a:off x="3351240" y="1536840"/>
            <a:ext cx="2571840" cy="43632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JUNTA GENERAL DE SOCI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1" name="Rectangle 14"/>
          <p:cNvSpPr/>
          <p:nvPr/>
        </p:nvSpPr>
        <p:spPr>
          <a:xfrm>
            <a:off x="3208320" y="2536920"/>
            <a:ext cx="2792520" cy="37944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CONSEJO DE ADMINISTR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2" name="Rectangle 17"/>
          <p:cNvSpPr/>
          <p:nvPr/>
        </p:nvSpPr>
        <p:spPr>
          <a:xfrm>
            <a:off x="3494160" y="3465360"/>
            <a:ext cx="2371680" cy="32076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COMITÉ DE DIREC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3" name="11 Conector recto"/>
          <p:cNvSpPr/>
          <p:nvPr/>
        </p:nvSpPr>
        <p:spPr>
          <a:xfrm flipH="1">
            <a:off x="4605480" y="1973160"/>
            <a:ext cx="31680" cy="563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4" name="13 Conector recto"/>
          <p:cNvSpPr/>
          <p:nvPr/>
        </p:nvSpPr>
        <p:spPr>
          <a:xfrm flipH="1">
            <a:off x="4571640" y="2916360"/>
            <a:ext cx="33480" cy="583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5" name="14 CuadroTexto"/>
          <p:cNvSpPr/>
          <p:nvPr/>
        </p:nvSpPr>
        <p:spPr>
          <a:xfrm>
            <a:off x="571680" y="1432080"/>
            <a:ext cx="271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 trata de una empres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De responsabilidad limitad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apitalist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riv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6" name="15 Rectángulo redondeado"/>
          <p:cNvSpPr/>
          <p:nvPr/>
        </p:nvSpPr>
        <p:spPr>
          <a:xfrm>
            <a:off x="3059280" y="1268280"/>
            <a:ext cx="3143160" cy="2857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7" name="18 CuadroTexto"/>
          <p:cNvSpPr/>
          <p:nvPr/>
        </p:nvSpPr>
        <p:spPr>
          <a:xfrm>
            <a:off x="500040" y="480060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Nueve accionistas (personas físicas) trabajadores de la empres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onsejo de administración (6 personas, 4 trabajadores de la empresa y 2 son externos a la empresa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WordArt 8"/>
          <p:cNvSpPr txBox="1"/>
          <p:nvPr/>
        </p:nvSpPr>
        <p:spPr>
          <a:xfrm>
            <a:off x="1835280" y="189000"/>
            <a:ext cx="532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ANÁLISIS POLÍTICO DE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LA ORGANIZACIÓN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  <p:timing>
    <p:tnLst>
      <p:par>
        <p:cTn id="3119" dur="indefinite" restart="never" nodeType="tmRoot">
          <p:childTnLst>
            <p:seq>
              <p:cTn id="3120" dur="indefinite" nodeType="mainSeq">
                <p:childTnLst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8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4 CuadroTexto"/>
          <p:cNvSpPr/>
          <p:nvPr/>
        </p:nvSpPr>
        <p:spPr>
          <a:xfrm>
            <a:off x="646560" y="214308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CREDITACION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0" name="5 CuadroTexto"/>
          <p:cNvSpPr/>
          <p:nvPr/>
        </p:nvSpPr>
        <p:spPr>
          <a:xfrm>
            <a:off x="5365800" y="300024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OLÍTICA DE CALIDA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1" name="6 CuadroTexto"/>
          <p:cNvSpPr/>
          <p:nvPr/>
        </p:nvSpPr>
        <p:spPr>
          <a:xfrm>
            <a:off x="1156320" y="464328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GESTIÓN DE CALIDA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2" name="WordArt 8"/>
          <p:cNvSpPr txBox="1"/>
          <p:nvPr/>
        </p:nvSpPr>
        <p:spPr>
          <a:xfrm>
            <a:off x="1476360" y="476280"/>
            <a:ext cx="626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944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Sylfaen"/>
              </a:rPr>
              <a:t>SISTEMA DE CALIDAD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ff944b"/>
                  </a:gs>
                </a:gsLst>
                <a:lin ang="27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4 CuadroTexto"/>
          <p:cNvSpPr/>
          <p:nvPr/>
        </p:nvSpPr>
        <p:spPr>
          <a:xfrm>
            <a:off x="785880" y="1643040"/>
            <a:ext cx="800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rasplantes de Cornea, Esclera y Membrana Amniótic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ínica de Oftalmología de Córdoba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es el único centro privado de Andalucía acreditado en 1999 por la Consejería de Salud para la realización de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rasplantes de Córnea.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ambién posee un Contrato con el Banco Sectorial de Tejidos de Córdoba para el suministro de córne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Igualmente la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ínica de Oftalmología de Córdoba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demuestra ser pionera, al ser la única clínica privada en Andalucía, en obtener la acreditación por la Consejería de Salud para realizar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Implante ocular de Membrana amniótica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y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xtracción e Implante ocular de Esclera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4" name="WordArt 12"/>
          <p:cNvSpPr txBox="1"/>
          <p:nvPr/>
        </p:nvSpPr>
        <p:spPr>
          <a:xfrm>
            <a:off x="1692360" y="692280"/>
            <a:ext cx="5329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ACREDITACION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9"/>
          <p:cNvSpPr/>
          <p:nvPr/>
        </p:nvSpPr>
        <p:spPr>
          <a:xfrm>
            <a:off x="3708360" y="1484280"/>
            <a:ext cx="1150920" cy="271440"/>
          </a:xfrm>
          <a:prstGeom prst="rect">
            <a:avLst/>
          </a:prstGeom>
          <a:solidFill>
            <a:srgbClr val="ccccff"/>
          </a:solidFill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IREC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788000" y="1916280"/>
            <a:ext cx="1224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PTO. CALIDA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Belén Can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>
            <a:off x="4356000" y="1773360"/>
            <a:ext cx="0" cy="12240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4356000" y="2205000"/>
            <a:ext cx="45108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127"/>
          <p:cNvSpPr/>
          <p:nvPr/>
        </p:nvSpPr>
        <p:spPr>
          <a:xfrm>
            <a:off x="1619280" y="2708280"/>
            <a:ext cx="1371600" cy="792000"/>
          </a:xfrm>
          <a:prstGeom prst="rect">
            <a:avLst/>
          </a:prstGeom>
          <a:solidFill>
            <a:srgbClr val="ccccff"/>
          </a:solidFill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GERENCI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GERENTE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Rafael Agüer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Line 130"/>
          <p:cNvSpPr/>
          <p:nvPr/>
        </p:nvSpPr>
        <p:spPr>
          <a:xfrm>
            <a:off x="2340000" y="4149720"/>
            <a:ext cx="0" cy="114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131"/>
          <p:cNvSpPr/>
          <p:nvPr/>
        </p:nvSpPr>
        <p:spPr>
          <a:xfrm>
            <a:off x="755640" y="4292640"/>
            <a:ext cx="27432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132"/>
          <p:cNvSpPr/>
          <p:nvPr/>
        </p:nvSpPr>
        <p:spPr>
          <a:xfrm>
            <a:off x="755640" y="429264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33"/>
          <p:cNvSpPr/>
          <p:nvPr/>
        </p:nvSpPr>
        <p:spPr>
          <a:xfrm>
            <a:off x="3492360" y="4292640"/>
            <a:ext cx="0" cy="2286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SimSun"/>
              </a:rPr>
              <a:t>ADMINISTR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35"/>
          <p:cNvSpPr/>
          <p:nvPr/>
        </p:nvSpPr>
        <p:spPr>
          <a:xfrm>
            <a:off x="993600" y="4869000"/>
            <a:ext cx="914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11111"/>
                </a:solidFill>
                <a:latin typeface="Arial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37"/>
          <p:cNvSpPr/>
          <p:nvPr/>
        </p:nvSpPr>
        <p:spPr>
          <a:xfrm>
            <a:off x="755640" y="4724280"/>
            <a:ext cx="0" cy="6778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38"/>
          <p:cNvSpPr/>
          <p:nvPr/>
        </p:nvSpPr>
        <p:spPr>
          <a:xfrm flipH="1">
            <a:off x="755280" y="49417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41"/>
          <p:cNvSpPr/>
          <p:nvPr/>
        </p:nvSpPr>
        <p:spPr>
          <a:xfrm>
            <a:off x="2340000" y="3500280"/>
            <a:ext cx="0" cy="1875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Line 142"/>
          <p:cNvSpPr/>
          <p:nvPr/>
        </p:nvSpPr>
        <p:spPr>
          <a:xfrm>
            <a:off x="3419640" y="4869000"/>
            <a:ext cx="0" cy="333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Line 143"/>
          <p:cNvSpPr/>
          <p:nvPr/>
        </p:nvSpPr>
        <p:spPr>
          <a:xfrm>
            <a:off x="1619280" y="5229360"/>
            <a:ext cx="24480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Line 144"/>
          <p:cNvSpPr/>
          <p:nvPr/>
        </p:nvSpPr>
        <p:spPr>
          <a:xfrm>
            <a:off x="1619280" y="5229360"/>
            <a:ext cx="0" cy="2286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145"/>
          <p:cNvSpPr/>
          <p:nvPr/>
        </p:nvSpPr>
        <p:spPr>
          <a:xfrm>
            <a:off x="2050920" y="5229360"/>
            <a:ext cx="1800" cy="2286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Line 146"/>
          <p:cNvSpPr/>
          <p:nvPr/>
        </p:nvSpPr>
        <p:spPr>
          <a:xfrm>
            <a:off x="3132000" y="5229360"/>
            <a:ext cx="1800" cy="2286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147"/>
          <p:cNvSpPr/>
          <p:nvPr/>
        </p:nvSpPr>
        <p:spPr>
          <a:xfrm>
            <a:off x="2556000" y="5229360"/>
            <a:ext cx="1440" cy="2286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148"/>
          <p:cNvSpPr/>
          <p:nvPr/>
        </p:nvSpPr>
        <p:spPr>
          <a:xfrm>
            <a:off x="4067280" y="5877000"/>
            <a:ext cx="0" cy="2887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155"/>
          <p:cNvSpPr/>
          <p:nvPr/>
        </p:nvSpPr>
        <p:spPr>
          <a:xfrm>
            <a:off x="4065480" y="5229360"/>
            <a:ext cx="0" cy="2156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Line 156"/>
          <p:cNvSpPr/>
          <p:nvPr/>
        </p:nvSpPr>
        <p:spPr>
          <a:xfrm>
            <a:off x="6804000" y="2997360"/>
            <a:ext cx="11448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Line 158"/>
          <p:cNvSpPr/>
          <p:nvPr/>
        </p:nvSpPr>
        <p:spPr>
          <a:xfrm>
            <a:off x="6948360" y="2349360"/>
            <a:ext cx="2286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Line 159"/>
          <p:cNvSpPr/>
          <p:nvPr/>
        </p:nvSpPr>
        <p:spPr>
          <a:xfrm>
            <a:off x="6948360" y="2781360"/>
            <a:ext cx="2286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160"/>
          <p:cNvSpPr/>
          <p:nvPr/>
        </p:nvSpPr>
        <p:spPr>
          <a:xfrm>
            <a:off x="6948360" y="3284640"/>
            <a:ext cx="2286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161"/>
          <p:cNvSpPr/>
          <p:nvPr/>
        </p:nvSpPr>
        <p:spPr>
          <a:xfrm>
            <a:off x="7164360" y="306864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162"/>
          <p:cNvSpPr/>
          <p:nvPr/>
        </p:nvSpPr>
        <p:spPr>
          <a:xfrm>
            <a:off x="7164360" y="263700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163"/>
          <p:cNvSpPr/>
          <p:nvPr/>
        </p:nvSpPr>
        <p:spPr>
          <a:xfrm>
            <a:off x="7164360" y="213372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164"/>
          <p:cNvSpPr/>
          <p:nvPr/>
        </p:nvSpPr>
        <p:spPr>
          <a:xfrm>
            <a:off x="5076720" y="4437000"/>
            <a:ext cx="1127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167"/>
          <p:cNvSpPr/>
          <p:nvPr/>
        </p:nvSpPr>
        <p:spPr>
          <a:xfrm>
            <a:off x="7161120" y="3645000"/>
            <a:ext cx="1371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EDICOS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168"/>
          <p:cNvSpPr/>
          <p:nvPr/>
        </p:nvSpPr>
        <p:spPr>
          <a:xfrm>
            <a:off x="5508720" y="3573360"/>
            <a:ext cx="114300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FTALMÓLOG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169"/>
          <p:cNvSpPr/>
          <p:nvPr/>
        </p:nvSpPr>
        <p:spPr>
          <a:xfrm>
            <a:off x="6012000" y="3429000"/>
            <a:ext cx="0" cy="114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170"/>
          <p:cNvSpPr/>
          <p:nvPr/>
        </p:nvSpPr>
        <p:spPr>
          <a:xfrm>
            <a:off x="5580000" y="4076640"/>
            <a:ext cx="23418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Line 171"/>
          <p:cNvSpPr/>
          <p:nvPr/>
        </p:nvSpPr>
        <p:spPr>
          <a:xfrm>
            <a:off x="5580000" y="4076640"/>
            <a:ext cx="0" cy="343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Line 172"/>
          <p:cNvSpPr/>
          <p:nvPr/>
        </p:nvSpPr>
        <p:spPr>
          <a:xfrm>
            <a:off x="7885080" y="4076640"/>
            <a:ext cx="0" cy="343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Line 173"/>
          <p:cNvSpPr/>
          <p:nvPr/>
        </p:nvSpPr>
        <p:spPr>
          <a:xfrm>
            <a:off x="6877080" y="4076640"/>
            <a:ext cx="0" cy="343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Line 174"/>
          <p:cNvSpPr/>
          <p:nvPr/>
        </p:nvSpPr>
        <p:spPr>
          <a:xfrm>
            <a:off x="6659640" y="3789360"/>
            <a:ext cx="4572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Line 175"/>
          <p:cNvSpPr/>
          <p:nvPr/>
        </p:nvSpPr>
        <p:spPr>
          <a:xfrm>
            <a:off x="6084720" y="3933720"/>
            <a:ext cx="0" cy="1144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Line 176"/>
          <p:cNvSpPr/>
          <p:nvPr/>
        </p:nvSpPr>
        <p:spPr>
          <a:xfrm>
            <a:off x="2987640" y="3284640"/>
            <a:ext cx="1368360" cy="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177"/>
          <p:cNvSpPr/>
          <p:nvPr/>
        </p:nvSpPr>
        <p:spPr>
          <a:xfrm>
            <a:off x="4356000" y="3284640"/>
            <a:ext cx="0" cy="45720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178"/>
          <p:cNvSpPr/>
          <p:nvPr/>
        </p:nvSpPr>
        <p:spPr>
          <a:xfrm>
            <a:off x="4356000" y="3716280"/>
            <a:ext cx="1152720" cy="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Line 179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180"/>
          <p:cNvSpPr/>
          <p:nvPr/>
        </p:nvSpPr>
        <p:spPr>
          <a:xfrm>
            <a:off x="4211640" y="4653000"/>
            <a:ext cx="0" cy="79992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181"/>
          <p:cNvSpPr/>
          <p:nvPr/>
        </p:nvSpPr>
        <p:spPr>
          <a:xfrm>
            <a:off x="8388360" y="4797360"/>
            <a:ext cx="0" cy="432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Line 182"/>
          <p:cNvSpPr/>
          <p:nvPr/>
        </p:nvSpPr>
        <p:spPr>
          <a:xfrm>
            <a:off x="7380360" y="5229360"/>
            <a:ext cx="136836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Line 183"/>
          <p:cNvSpPr/>
          <p:nvPr/>
        </p:nvSpPr>
        <p:spPr>
          <a:xfrm>
            <a:off x="7020000" y="4871880"/>
            <a:ext cx="0" cy="5731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Line 184"/>
          <p:cNvSpPr/>
          <p:nvPr/>
        </p:nvSpPr>
        <p:spPr>
          <a:xfrm>
            <a:off x="5580000" y="4940280"/>
            <a:ext cx="0" cy="3603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Line 185"/>
          <p:cNvSpPr/>
          <p:nvPr/>
        </p:nvSpPr>
        <p:spPr>
          <a:xfrm>
            <a:off x="5940360" y="528804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Line 186"/>
          <p:cNvSpPr/>
          <p:nvPr/>
        </p:nvSpPr>
        <p:spPr>
          <a:xfrm>
            <a:off x="6443640" y="528804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187"/>
          <p:cNvSpPr/>
          <p:nvPr/>
        </p:nvSpPr>
        <p:spPr>
          <a:xfrm>
            <a:off x="5508720" y="528804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Line 188"/>
          <p:cNvSpPr/>
          <p:nvPr/>
        </p:nvSpPr>
        <p:spPr>
          <a:xfrm>
            <a:off x="5076720" y="5300640"/>
            <a:ext cx="0" cy="2286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Line 189"/>
          <p:cNvSpPr/>
          <p:nvPr/>
        </p:nvSpPr>
        <p:spPr>
          <a:xfrm>
            <a:off x="7812000" y="5229360"/>
            <a:ext cx="0" cy="2872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Line 190"/>
          <p:cNvSpPr/>
          <p:nvPr/>
        </p:nvSpPr>
        <p:spPr>
          <a:xfrm>
            <a:off x="8748720" y="5229360"/>
            <a:ext cx="0" cy="2872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Line 191"/>
          <p:cNvSpPr/>
          <p:nvPr/>
        </p:nvSpPr>
        <p:spPr>
          <a:xfrm>
            <a:off x="7380360" y="5229360"/>
            <a:ext cx="0" cy="2872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Line 192"/>
          <p:cNvSpPr/>
          <p:nvPr/>
        </p:nvSpPr>
        <p:spPr>
          <a:xfrm>
            <a:off x="4356000" y="5013360"/>
            <a:ext cx="3899160" cy="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193"/>
          <p:cNvSpPr/>
          <p:nvPr/>
        </p:nvSpPr>
        <p:spPr>
          <a:xfrm>
            <a:off x="8244000" y="4797360"/>
            <a:ext cx="0" cy="21600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194"/>
          <p:cNvSpPr/>
          <p:nvPr/>
        </p:nvSpPr>
        <p:spPr>
          <a:xfrm rot="10800000">
            <a:off x="8101080" y="5516280"/>
            <a:ext cx="358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QUIRÓF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195"/>
          <p:cNvSpPr/>
          <p:nvPr/>
        </p:nvSpPr>
        <p:spPr>
          <a:xfrm rot="10800000">
            <a:off x="6805080" y="5516280"/>
            <a:ext cx="28764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196"/>
          <p:cNvSpPr/>
          <p:nvPr/>
        </p:nvSpPr>
        <p:spPr>
          <a:xfrm rot="10800000">
            <a:off x="6227640" y="5516280"/>
            <a:ext cx="3621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97"/>
          <p:cNvSpPr/>
          <p:nvPr/>
        </p:nvSpPr>
        <p:spPr>
          <a:xfrm rot="10800000">
            <a:off x="56991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199"/>
          <p:cNvSpPr/>
          <p:nvPr/>
        </p:nvSpPr>
        <p:spPr>
          <a:xfrm rot="10800000">
            <a:off x="49323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Text Box 200"/>
          <p:cNvSpPr/>
          <p:nvPr/>
        </p:nvSpPr>
        <p:spPr>
          <a:xfrm rot="10800000">
            <a:off x="7667280" y="5516280"/>
            <a:ext cx="2890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PLANT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Text Box 201"/>
          <p:cNvSpPr/>
          <p:nvPr/>
        </p:nvSpPr>
        <p:spPr>
          <a:xfrm rot="10800000">
            <a:off x="8604000" y="5516280"/>
            <a:ext cx="277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DU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Text Box 202"/>
          <p:cNvSpPr/>
          <p:nvPr/>
        </p:nvSpPr>
        <p:spPr>
          <a:xfrm rot="10800000">
            <a:off x="723744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Line 203"/>
          <p:cNvSpPr/>
          <p:nvPr/>
        </p:nvSpPr>
        <p:spPr>
          <a:xfrm>
            <a:off x="5076720" y="5300640"/>
            <a:ext cx="136692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Line 204"/>
          <p:cNvSpPr/>
          <p:nvPr/>
        </p:nvSpPr>
        <p:spPr>
          <a:xfrm>
            <a:off x="4356000" y="5013360"/>
            <a:ext cx="0" cy="43164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Line 205"/>
          <p:cNvSpPr/>
          <p:nvPr/>
        </p:nvSpPr>
        <p:spPr>
          <a:xfrm>
            <a:off x="8244000" y="5229360"/>
            <a:ext cx="0" cy="2872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WordArt 206"/>
          <p:cNvSpPr txBox="1"/>
          <p:nvPr/>
        </p:nvSpPr>
        <p:spPr>
          <a:xfrm>
            <a:off x="2340000" y="404640"/>
            <a:ext cx="439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6699ff"/>
                    </a:gs>
                  </a:gsLst>
                  <a:lin ang="27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ORGANIGRAM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6699ff"/>
                  </a:gs>
                </a:gsLst>
                <a:lin ang="27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229" name="AutoShape 89"/>
          <p:cNvSpPr/>
          <p:nvPr/>
        </p:nvSpPr>
        <p:spPr>
          <a:xfrm>
            <a:off x="7812000" y="0"/>
            <a:ext cx="1008000" cy="576360"/>
          </a:xfrm>
          <a:prstGeom prst="pi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99"/>
                </a:solidFill>
                <a:latin typeface="Arial"/>
                <a:ea typeface="Arial"/>
              </a:rPr>
              <a:t>ÍNDIC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803840" y="1914480"/>
            <a:ext cx="1224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PTO. CALIDA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Belén Can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Text Box 163"/>
          <p:cNvSpPr/>
          <p:nvPr/>
        </p:nvSpPr>
        <p:spPr>
          <a:xfrm>
            <a:off x="7180200" y="2131920"/>
            <a:ext cx="125748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Text Box 162"/>
          <p:cNvSpPr/>
          <p:nvPr/>
        </p:nvSpPr>
        <p:spPr>
          <a:xfrm>
            <a:off x="7164360" y="263700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803840" y="1914480"/>
            <a:ext cx="1224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PTO. CALIDA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Belén Can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Text Box 163"/>
          <p:cNvSpPr/>
          <p:nvPr/>
        </p:nvSpPr>
        <p:spPr>
          <a:xfrm>
            <a:off x="7180200" y="2131920"/>
            <a:ext cx="125748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161"/>
          <p:cNvSpPr/>
          <p:nvPr/>
        </p:nvSpPr>
        <p:spPr>
          <a:xfrm>
            <a:off x="7164360" y="306864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Text Box 162"/>
          <p:cNvSpPr/>
          <p:nvPr/>
        </p:nvSpPr>
        <p:spPr>
          <a:xfrm>
            <a:off x="7164360" y="263700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4803840" y="1914480"/>
            <a:ext cx="1224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PTO. CALIDA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Belén Can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Text Box 163"/>
          <p:cNvSpPr/>
          <p:nvPr/>
        </p:nvSpPr>
        <p:spPr>
          <a:xfrm>
            <a:off x="7180200" y="2131920"/>
            <a:ext cx="1257480" cy="3430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Text Box 167"/>
          <p:cNvSpPr/>
          <p:nvPr/>
        </p:nvSpPr>
        <p:spPr>
          <a:xfrm>
            <a:off x="7164360" y="3645000"/>
            <a:ext cx="1371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EDICOS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Text Box 161"/>
          <p:cNvSpPr/>
          <p:nvPr/>
        </p:nvSpPr>
        <p:spPr>
          <a:xfrm>
            <a:off x="7167600" y="3068640"/>
            <a:ext cx="125712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Text Box 162"/>
          <p:cNvSpPr/>
          <p:nvPr/>
        </p:nvSpPr>
        <p:spPr>
          <a:xfrm>
            <a:off x="7167600" y="2637000"/>
            <a:ext cx="125712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807080" y="1914480"/>
            <a:ext cx="1224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PTO. CALIDA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Belén Can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Text Box 163"/>
          <p:cNvSpPr/>
          <p:nvPr/>
        </p:nvSpPr>
        <p:spPr>
          <a:xfrm>
            <a:off x="7164360" y="213372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Text Box 164"/>
          <p:cNvSpPr/>
          <p:nvPr/>
        </p:nvSpPr>
        <p:spPr>
          <a:xfrm>
            <a:off x="5076720" y="4437000"/>
            <a:ext cx="1127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Text Box 201"/>
          <p:cNvSpPr/>
          <p:nvPr/>
        </p:nvSpPr>
        <p:spPr>
          <a:xfrm rot="10800000">
            <a:off x="8604000" y="5516280"/>
            <a:ext cx="277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DU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Text Box 164"/>
          <p:cNvSpPr/>
          <p:nvPr/>
        </p:nvSpPr>
        <p:spPr>
          <a:xfrm>
            <a:off x="5076720" y="4437000"/>
            <a:ext cx="1127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Text Box 194"/>
          <p:cNvSpPr/>
          <p:nvPr/>
        </p:nvSpPr>
        <p:spPr>
          <a:xfrm rot="10800000">
            <a:off x="8101080" y="5516280"/>
            <a:ext cx="358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QUIRÓF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Text Box 201"/>
          <p:cNvSpPr/>
          <p:nvPr/>
        </p:nvSpPr>
        <p:spPr>
          <a:xfrm rot="10800000">
            <a:off x="8604000" y="5516280"/>
            <a:ext cx="277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DU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Text Box 164"/>
          <p:cNvSpPr/>
          <p:nvPr/>
        </p:nvSpPr>
        <p:spPr>
          <a:xfrm>
            <a:off x="5076720" y="4437000"/>
            <a:ext cx="1127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Text Box 200"/>
          <p:cNvSpPr/>
          <p:nvPr/>
        </p:nvSpPr>
        <p:spPr>
          <a:xfrm rot="10800000">
            <a:off x="7667280" y="5516280"/>
            <a:ext cx="2890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PLANT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Text Box 194"/>
          <p:cNvSpPr/>
          <p:nvPr/>
        </p:nvSpPr>
        <p:spPr>
          <a:xfrm rot="10800000">
            <a:off x="8101080" y="5516280"/>
            <a:ext cx="358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QUIRÓF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Text Box 201"/>
          <p:cNvSpPr/>
          <p:nvPr/>
        </p:nvSpPr>
        <p:spPr>
          <a:xfrm rot="10800000">
            <a:off x="8604000" y="5516280"/>
            <a:ext cx="2775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DU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Text Box 164"/>
          <p:cNvSpPr/>
          <p:nvPr/>
        </p:nvSpPr>
        <p:spPr>
          <a:xfrm>
            <a:off x="5076720" y="4437000"/>
            <a:ext cx="1127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Text Box 165"/>
          <p:cNvSpPr/>
          <p:nvPr/>
        </p:nvSpPr>
        <p:spPr>
          <a:xfrm>
            <a:off x="6410160" y="4437000"/>
            <a:ext cx="11145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Text Box 202"/>
          <p:cNvSpPr/>
          <p:nvPr/>
        </p:nvSpPr>
        <p:spPr>
          <a:xfrm rot="10800000">
            <a:off x="723600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Text Box 200"/>
          <p:cNvSpPr/>
          <p:nvPr/>
        </p:nvSpPr>
        <p:spPr>
          <a:xfrm rot="10800000">
            <a:off x="7667280" y="5516280"/>
            <a:ext cx="2890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PLANT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Text Box 194"/>
          <p:cNvSpPr/>
          <p:nvPr/>
        </p:nvSpPr>
        <p:spPr>
          <a:xfrm rot="10800000">
            <a:off x="8098920" y="5516280"/>
            <a:ext cx="35892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QUIRÓF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Text Box 201"/>
          <p:cNvSpPr/>
          <p:nvPr/>
        </p:nvSpPr>
        <p:spPr>
          <a:xfrm rot="10800000">
            <a:off x="8602560" y="5516280"/>
            <a:ext cx="27792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DU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Text Box 164"/>
          <p:cNvSpPr/>
          <p:nvPr/>
        </p:nvSpPr>
        <p:spPr>
          <a:xfrm>
            <a:off x="5075280" y="4437000"/>
            <a:ext cx="1127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AUXILIARES IO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ª José Ortiz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Text Box 165"/>
          <p:cNvSpPr/>
          <p:nvPr/>
        </p:nvSpPr>
        <p:spPr>
          <a:xfrm>
            <a:off x="6408720" y="4437000"/>
            <a:ext cx="11145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licia Navarr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Text Box 166"/>
          <p:cNvSpPr/>
          <p:nvPr/>
        </p:nvSpPr>
        <p:spPr>
          <a:xfrm>
            <a:off x="7596360" y="4437000"/>
            <a:ext cx="1269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H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Prad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Text Box 195"/>
          <p:cNvSpPr/>
          <p:nvPr/>
        </p:nvSpPr>
        <p:spPr>
          <a:xfrm rot="10800000">
            <a:off x="680400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Text Box 196"/>
          <p:cNvSpPr/>
          <p:nvPr/>
        </p:nvSpPr>
        <p:spPr>
          <a:xfrm rot="10800000">
            <a:off x="6252840" y="5516280"/>
            <a:ext cx="3618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SimSun"/>
              </a:rPr>
              <a:t>ADMINISTR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Text Box 135"/>
          <p:cNvSpPr/>
          <p:nvPr/>
        </p:nvSpPr>
        <p:spPr>
          <a:xfrm>
            <a:off x="993600" y="4869000"/>
            <a:ext cx="914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11111"/>
                </a:solidFill>
                <a:latin typeface="Arial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Text Box 198"/>
          <p:cNvSpPr/>
          <p:nvPr/>
        </p:nvSpPr>
        <p:spPr>
          <a:xfrm rot="10800000">
            <a:off x="5290920" y="5516280"/>
            <a:ext cx="3603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CI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Text Box 196"/>
          <p:cNvSpPr/>
          <p:nvPr/>
        </p:nvSpPr>
        <p:spPr>
          <a:xfrm rot="10800000">
            <a:off x="6300720" y="5516280"/>
            <a:ext cx="36216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ORIA USUAR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SimSun"/>
              </a:rPr>
              <a:t>ADMINISTR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Text Box 135"/>
          <p:cNvSpPr/>
          <p:nvPr/>
        </p:nvSpPr>
        <p:spPr>
          <a:xfrm>
            <a:off x="993600" y="4869000"/>
            <a:ext cx="914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11111"/>
                </a:solidFill>
                <a:latin typeface="Arial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Text Box 154"/>
          <p:cNvSpPr/>
          <p:nvPr/>
        </p:nvSpPr>
        <p:spPr>
          <a:xfrm>
            <a:off x="3543480" y="6165720"/>
            <a:ext cx="1028520" cy="2876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Text Box 153"/>
          <p:cNvSpPr/>
          <p:nvPr/>
        </p:nvSpPr>
        <p:spPr>
          <a:xfrm>
            <a:off x="3348000" y="5445000"/>
            <a:ext cx="11430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A DE LIMPIEZ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armen Cabanill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Text Box 195"/>
          <p:cNvSpPr/>
          <p:nvPr/>
        </p:nvSpPr>
        <p:spPr>
          <a:xfrm rot="10800000">
            <a:off x="68295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OPTOMETRIST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Text Box 162"/>
          <p:cNvSpPr/>
          <p:nvPr/>
        </p:nvSpPr>
        <p:spPr>
          <a:xfrm>
            <a:off x="7164360" y="263700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Text Box 161"/>
          <p:cNvSpPr/>
          <p:nvPr/>
        </p:nvSpPr>
        <p:spPr>
          <a:xfrm>
            <a:off x="7164360" y="306864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Text Box 163"/>
          <p:cNvSpPr/>
          <p:nvPr/>
        </p:nvSpPr>
        <p:spPr>
          <a:xfrm>
            <a:off x="7161120" y="213372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Text Box 162"/>
          <p:cNvSpPr/>
          <p:nvPr/>
        </p:nvSpPr>
        <p:spPr>
          <a:xfrm>
            <a:off x="7161120" y="263700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Text Box 128"/>
          <p:cNvSpPr/>
          <p:nvPr/>
        </p:nvSpPr>
        <p:spPr>
          <a:xfrm>
            <a:off x="5203800" y="2709720"/>
            <a:ext cx="1600200" cy="719280"/>
          </a:xfrm>
          <a:prstGeom prst="rect">
            <a:avLst/>
          </a:prstGeom>
          <a:solidFill>
            <a:srgbClr val="ccccff"/>
          </a:solidFill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DPTO. MÉDIC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RESP. DPTO. MÉDICO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Juan Manuel Labord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Text Box 161"/>
          <p:cNvSpPr/>
          <p:nvPr/>
        </p:nvSpPr>
        <p:spPr>
          <a:xfrm>
            <a:off x="7164360" y="306864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URGENCI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Text Box 163"/>
          <p:cNvSpPr/>
          <p:nvPr/>
        </p:nvSpPr>
        <p:spPr>
          <a:xfrm>
            <a:off x="7161120" y="213372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TRASPLA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Text Box 162"/>
          <p:cNvSpPr/>
          <p:nvPr/>
        </p:nvSpPr>
        <p:spPr>
          <a:xfrm>
            <a:off x="7161120" y="2637000"/>
            <a:ext cx="1257480" cy="34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COORDINADOR SJ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Line 126"/>
          <p:cNvSpPr/>
          <p:nvPr/>
        </p:nvSpPr>
        <p:spPr>
          <a:xfrm>
            <a:off x="1619280" y="2997360"/>
            <a:ext cx="518472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Text Box 199"/>
          <p:cNvSpPr/>
          <p:nvPr/>
        </p:nvSpPr>
        <p:spPr>
          <a:xfrm rot="10800000">
            <a:off x="4932360" y="5516280"/>
            <a:ext cx="28728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Text Box 197"/>
          <p:cNvSpPr/>
          <p:nvPr/>
        </p:nvSpPr>
        <p:spPr>
          <a:xfrm rot="10800000">
            <a:off x="57243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Text Box 199"/>
          <p:cNvSpPr/>
          <p:nvPr/>
        </p:nvSpPr>
        <p:spPr>
          <a:xfrm rot="10800000">
            <a:off x="4933440" y="5516280"/>
            <a:ext cx="28764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UX. ADMIS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Text Box 197"/>
          <p:cNvSpPr/>
          <p:nvPr/>
        </p:nvSpPr>
        <p:spPr>
          <a:xfrm rot="10800000">
            <a:off x="5726160" y="5516280"/>
            <a:ext cx="457200" cy="10285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GESTIÓN DE TELEFON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Text Box 151"/>
          <p:cNvSpPr/>
          <p:nvPr/>
        </p:nvSpPr>
        <p:spPr>
          <a:xfrm rot="10800000">
            <a:off x="233964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Text Box 135"/>
          <p:cNvSpPr/>
          <p:nvPr/>
        </p:nvSpPr>
        <p:spPr>
          <a:xfrm>
            <a:off x="971640" y="4869000"/>
            <a:ext cx="914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11111"/>
                </a:solidFill>
                <a:latin typeface="Arial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Text Box 149"/>
          <p:cNvSpPr/>
          <p:nvPr/>
        </p:nvSpPr>
        <p:spPr>
          <a:xfrm rot="10800000">
            <a:off x="138060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Text Box 150"/>
          <p:cNvSpPr/>
          <p:nvPr/>
        </p:nvSpPr>
        <p:spPr>
          <a:xfrm rot="10800000">
            <a:off x="1886040" y="5445000"/>
            <a:ext cx="28872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Text Box 151"/>
          <p:cNvSpPr/>
          <p:nvPr/>
        </p:nvSpPr>
        <p:spPr>
          <a:xfrm rot="10800000">
            <a:off x="231732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Text Box 152"/>
          <p:cNvSpPr/>
          <p:nvPr/>
        </p:nvSpPr>
        <p:spPr>
          <a:xfrm rot="10800000">
            <a:off x="282060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SimSun"/>
              </a:rPr>
              <a:t>ADMINISTR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Text Box 135"/>
          <p:cNvSpPr/>
          <p:nvPr/>
        </p:nvSpPr>
        <p:spPr>
          <a:xfrm>
            <a:off x="971640" y="4869000"/>
            <a:ext cx="9144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11111"/>
                </a:solidFill>
                <a:latin typeface="Arial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Text Box 149"/>
          <p:cNvSpPr/>
          <p:nvPr/>
        </p:nvSpPr>
        <p:spPr>
          <a:xfrm rot="10800000">
            <a:off x="138060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Text Box 150"/>
          <p:cNvSpPr/>
          <p:nvPr/>
        </p:nvSpPr>
        <p:spPr>
          <a:xfrm rot="10800000">
            <a:off x="1886040" y="5445000"/>
            <a:ext cx="28872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Text Box 151"/>
          <p:cNvSpPr/>
          <p:nvPr/>
        </p:nvSpPr>
        <p:spPr>
          <a:xfrm rot="10800000">
            <a:off x="231732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Text Box 152"/>
          <p:cNvSpPr/>
          <p:nvPr/>
        </p:nvSpPr>
        <p:spPr>
          <a:xfrm rot="10800000">
            <a:off x="282060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Text Box 136"/>
          <p:cNvSpPr/>
          <p:nvPr/>
        </p:nvSpPr>
        <p:spPr>
          <a:xfrm rot="10800000">
            <a:off x="610920" y="5445000"/>
            <a:ext cx="36036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AUX. ADMINIST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Text Box 134"/>
          <p:cNvSpPr/>
          <p:nvPr/>
        </p:nvSpPr>
        <p:spPr>
          <a:xfrm>
            <a:off x="250920" y="4508640"/>
            <a:ext cx="1531800" cy="2174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111111"/>
                </a:solidFill>
                <a:latin typeface="Arial"/>
                <a:ea typeface="SimSun"/>
              </a:rPr>
              <a:t>ADMINISTR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Text Box 135"/>
          <p:cNvSpPr/>
          <p:nvPr/>
        </p:nvSpPr>
        <p:spPr>
          <a:xfrm>
            <a:off x="971640" y="4869000"/>
            <a:ext cx="100800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11111"/>
                </a:solidFill>
                <a:latin typeface="Arial"/>
                <a:ea typeface="Arial"/>
              </a:rPr>
              <a:t>SECRETAR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Text Box 149"/>
          <p:cNvSpPr/>
          <p:nvPr/>
        </p:nvSpPr>
        <p:spPr>
          <a:xfrm rot="10800000">
            <a:off x="1402920" y="5445000"/>
            <a:ext cx="358920" cy="115272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EXT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Text Box 150"/>
          <p:cNvSpPr/>
          <p:nvPr/>
        </p:nvSpPr>
        <p:spPr>
          <a:xfrm rot="10800000">
            <a:off x="1907640" y="5445000"/>
            <a:ext cx="2890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. INTEGR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Text Box 139"/>
          <p:cNvSpPr/>
          <p:nvPr/>
        </p:nvSpPr>
        <p:spPr>
          <a:xfrm>
            <a:off x="2771640" y="4581360"/>
            <a:ext cx="1152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MANTENIMIEN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Belén Ca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Text Box 151"/>
          <p:cNvSpPr/>
          <p:nvPr/>
        </p:nvSpPr>
        <p:spPr>
          <a:xfrm rot="10800000">
            <a:off x="2317320" y="5445000"/>
            <a:ext cx="36828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APLIC. INFORMAT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Text Box 152"/>
          <p:cNvSpPr/>
          <p:nvPr/>
        </p:nvSpPr>
        <p:spPr>
          <a:xfrm rot="10800000">
            <a:off x="2842920" y="5445000"/>
            <a:ext cx="360360" cy="102888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11111"/>
                </a:solidFill>
                <a:latin typeface="Arial"/>
                <a:ea typeface="SimSun"/>
              </a:rPr>
              <a:t>JARDINE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4356000" y="1773360"/>
            <a:ext cx="0" cy="12240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Line 12"/>
          <p:cNvSpPr/>
          <p:nvPr/>
        </p:nvSpPr>
        <p:spPr>
          <a:xfrm>
            <a:off x="4356000" y="2205000"/>
            <a:ext cx="45108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Line 159"/>
          <p:cNvSpPr/>
          <p:nvPr/>
        </p:nvSpPr>
        <p:spPr>
          <a:xfrm>
            <a:off x="6948360" y="2781360"/>
            <a:ext cx="2286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Line 158"/>
          <p:cNvSpPr/>
          <p:nvPr/>
        </p:nvSpPr>
        <p:spPr>
          <a:xfrm>
            <a:off x="6948360" y="2349360"/>
            <a:ext cx="2286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356000" y="1773360"/>
            <a:ext cx="0" cy="12240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4356000" y="2205000"/>
            <a:ext cx="45108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Line 159"/>
          <p:cNvSpPr/>
          <p:nvPr/>
        </p:nvSpPr>
        <p:spPr>
          <a:xfrm>
            <a:off x="6948360" y="2781360"/>
            <a:ext cx="2286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Line 160"/>
          <p:cNvSpPr/>
          <p:nvPr/>
        </p:nvSpPr>
        <p:spPr>
          <a:xfrm>
            <a:off x="6948360" y="328464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Line 158"/>
          <p:cNvSpPr/>
          <p:nvPr/>
        </p:nvSpPr>
        <p:spPr>
          <a:xfrm>
            <a:off x="6948360" y="234936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356000" y="1773360"/>
            <a:ext cx="0" cy="12240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4356000" y="2205000"/>
            <a:ext cx="45108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Line 157"/>
          <p:cNvSpPr/>
          <p:nvPr/>
        </p:nvSpPr>
        <p:spPr>
          <a:xfrm flipV="1">
            <a:off x="6948360" y="2349360"/>
            <a:ext cx="0" cy="914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Line 159"/>
          <p:cNvSpPr/>
          <p:nvPr/>
        </p:nvSpPr>
        <p:spPr>
          <a:xfrm>
            <a:off x="6948360" y="278136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Line 176"/>
          <p:cNvSpPr/>
          <p:nvPr/>
        </p:nvSpPr>
        <p:spPr>
          <a:xfrm>
            <a:off x="2987640" y="3284640"/>
            <a:ext cx="1368360" cy="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Line 178"/>
          <p:cNvSpPr/>
          <p:nvPr/>
        </p:nvSpPr>
        <p:spPr>
          <a:xfrm>
            <a:off x="4356000" y="3716280"/>
            <a:ext cx="1152720" cy="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Line 177"/>
          <p:cNvSpPr/>
          <p:nvPr/>
        </p:nvSpPr>
        <p:spPr>
          <a:xfrm>
            <a:off x="4356000" y="3284640"/>
            <a:ext cx="0" cy="45720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Line 176"/>
          <p:cNvSpPr/>
          <p:nvPr/>
        </p:nvSpPr>
        <p:spPr>
          <a:xfrm>
            <a:off x="2987640" y="3284640"/>
            <a:ext cx="1368360" cy="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Line 178"/>
          <p:cNvSpPr/>
          <p:nvPr/>
        </p:nvSpPr>
        <p:spPr>
          <a:xfrm>
            <a:off x="4356000" y="3716280"/>
            <a:ext cx="1152720" cy="0"/>
          </a:xfrm>
          <a:prstGeom prst="line">
            <a:avLst/>
          </a:prstGeom>
          <a:ln cap="rnd" w="9360">
            <a:solidFill>
              <a:srgbClr val="77777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Line 174"/>
          <p:cNvSpPr/>
          <p:nvPr/>
        </p:nvSpPr>
        <p:spPr>
          <a:xfrm>
            <a:off x="6659640" y="3789360"/>
            <a:ext cx="4572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Line 177"/>
          <p:cNvSpPr/>
          <p:nvPr/>
        </p:nvSpPr>
        <p:spPr>
          <a:xfrm>
            <a:off x="4356000" y="3284640"/>
            <a:ext cx="0" cy="45720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Line 176"/>
          <p:cNvSpPr/>
          <p:nvPr/>
        </p:nvSpPr>
        <p:spPr>
          <a:xfrm>
            <a:off x="2987640" y="3284640"/>
            <a:ext cx="1368360" cy="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Line 178"/>
          <p:cNvSpPr/>
          <p:nvPr/>
        </p:nvSpPr>
        <p:spPr>
          <a:xfrm>
            <a:off x="4356000" y="3716280"/>
            <a:ext cx="1152720" cy="0"/>
          </a:xfrm>
          <a:prstGeom prst="line">
            <a:avLst/>
          </a:prstGeom>
          <a:ln cap="rnd" w="9360">
            <a:solidFill>
              <a:srgbClr val="cc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Line 171"/>
          <p:cNvSpPr/>
          <p:nvPr/>
        </p:nvSpPr>
        <p:spPr>
          <a:xfrm>
            <a:off x="5580000" y="4076640"/>
            <a:ext cx="0" cy="3430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Line 172"/>
          <p:cNvSpPr/>
          <p:nvPr/>
        </p:nvSpPr>
        <p:spPr>
          <a:xfrm>
            <a:off x="7885080" y="4076640"/>
            <a:ext cx="0" cy="3430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Line 173"/>
          <p:cNvSpPr/>
          <p:nvPr/>
        </p:nvSpPr>
        <p:spPr>
          <a:xfrm>
            <a:off x="6877080" y="4076640"/>
            <a:ext cx="0" cy="3430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Line 131"/>
          <p:cNvSpPr/>
          <p:nvPr/>
        </p:nvSpPr>
        <p:spPr>
          <a:xfrm>
            <a:off x="755640" y="4292640"/>
            <a:ext cx="274320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Text Box 129"/>
          <p:cNvSpPr/>
          <p:nvPr/>
        </p:nvSpPr>
        <p:spPr>
          <a:xfrm>
            <a:off x="1619280" y="3703680"/>
            <a:ext cx="1512720" cy="446040"/>
          </a:xfrm>
          <a:prstGeom prst="rect">
            <a:avLst/>
          </a:prstGeom>
          <a:solidFill>
            <a:srgbClr val="cccc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SUBDIREC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111111"/>
                </a:solidFill>
                <a:latin typeface="Arial"/>
                <a:ea typeface="Arial"/>
              </a:rPr>
              <a:t>Amalia Sáez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Line 130"/>
          <p:cNvSpPr/>
          <p:nvPr/>
        </p:nvSpPr>
        <p:spPr>
          <a:xfrm>
            <a:off x="2340000" y="4149720"/>
            <a:ext cx="0" cy="11448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Line 131"/>
          <p:cNvSpPr/>
          <p:nvPr/>
        </p:nvSpPr>
        <p:spPr>
          <a:xfrm>
            <a:off x="755640" y="4292640"/>
            <a:ext cx="27432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Line 188"/>
          <p:cNvSpPr/>
          <p:nvPr/>
        </p:nvSpPr>
        <p:spPr>
          <a:xfrm>
            <a:off x="5076720" y="5300640"/>
            <a:ext cx="0" cy="2286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Line 203"/>
          <p:cNvSpPr/>
          <p:nvPr/>
        </p:nvSpPr>
        <p:spPr>
          <a:xfrm>
            <a:off x="5076720" y="5300640"/>
            <a:ext cx="136692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00000" y="1268280"/>
            <a:ext cx="8064720" cy="216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0920" y="5157720"/>
            <a:ext cx="8893080" cy="1511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00000" y="3500280"/>
            <a:ext cx="7993080" cy="79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4365720"/>
            <a:ext cx="889308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58920" y="1413000"/>
            <a:ext cx="10810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NIVEL 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21080" y="3645000"/>
            <a:ext cx="1044720" cy="368280"/>
          </a:xfrm>
          <a:prstGeom prst="rect">
            <a:avLst/>
          </a:prstGeom>
          <a:solidFill>
            <a:srgbClr val="00cc00"/>
          </a:solidFill>
          <a:ln w="0">
            <a:noFill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NIVEL 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9080" y="4508640"/>
            <a:ext cx="947160" cy="337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NIVEL 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97080" y="6491160"/>
            <a:ext cx="1044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NIVEL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8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9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6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fill="hold">
                      <p:stCondLst>
                        <p:cond delay="indefinite"/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7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4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5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6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2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3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3 CuadroTexto"/>
          <p:cNvSpPr/>
          <p:nvPr/>
        </p:nvSpPr>
        <p:spPr>
          <a:xfrm>
            <a:off x="357120" y="1428840"/>
            <a:ext cx="8072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ínica de Oftalmología de Córdoba, S.L.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ha obtenido la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ERTIFICACIÓN ISO 9001:2000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otorgada por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Bureau Veritas Quality International  (BVQI)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bajo acreditación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NAC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y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UKAS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para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misión de Diagnóstico Oftalmológico, Corrección de la Miopía, Hipermetropía y Astigmatismo mediante la técnica LASIK e Intervención de Cataratas por Facoemulsificación.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ste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ertificación BVQI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refuerza la imagen de Calidad Internacional de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línica de Oftalmología de Córdob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6" name="WordArt 12"/>
          <p:cNvSpPr txBox="1"/>
          <p:nvPr/>
        </p:nvSpPr>
        <p:spPr>
          <a:xfrm>
            <a:off x="1835280" y="620640"/>
            <a:ext cx="532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GESTIÓN DE CALIDAD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3 CuadroTexto"/>
          <p:cNvSpPr/>
          <p:nvPr/>
        </p:nvSpPr>
        <p:spPr>
          <a:xfrm>
            <a:off x="285840" y="949320"/>
            <a:ext cx="871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os principios de la política de Calidad aprobados por el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Instituto de Oftalmología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Arruzafa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, son los siguientes: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l compromiso de la dirección consiste en proveer instalaciones, tecnología y personal capacitado para que las más actuales técnicas oftalmológicas se lleven a cabo en este centro y esto redunde en el mejor tratamiento y rehabilitación visual del paciente y, por tanto, en su satisfacc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ada miembro de la organización es responsable del trabajo que realiza, dando preferencia a la calidad en la prestación del servici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Debemos orientar el desempeño de nuestra actividad hacia la mejora continua y el cumplimiento de los requisitos legales y reglamentar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formación permanente del personal en todos los campos relacionados con el servicio al paciente es prioritari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s necesario el compromiso de toda la organización para conseguir los objetivos propuest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8" name="WordArt 12"/>
          <p:cNvSpPr txBox="1"/>
          <p:nvPr/>
        </p:nvSpPr>
        <p:spPr>
          <a:xfrm>
            <a:off x="1692360" y="260280"/>
            <a:ext cx="532908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POLÍTICA DE CALIDAD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WordArt 12"/>
          <p:cNvSpPr txBox="1"/>
          <p:nvPr/>
        </p:nvSpPr>
        <p:spPr>
          <a:xfrm>
            <a:off x="928800" y="571680"/>
            <a:ext cx="7358040" cy="78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ANÁLISIS DE LA ESTRUCTURA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944b"/>
                    </a:gs>
                    <a:gs pos="100000">
                      <a:srgbClr val="ff8b8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Sylfaen"/>
              </a:rPr>
              <a:t>ORGANIZATIVA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944b"/>
                  </a:gs>
                  <a:gs pos="100000">
                    <a:srgbClr val="ff8b8b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900" name="5 CuadroTexto"/>
          <p:cNvSpPr/>
          <p:nvPr/>
        </p:nvSpPr>
        <p:spPr>
          <a:xfrm>
            <a:off x="571680" y="192888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 trata de una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burocracia profesional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porque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ubsistema Estratégico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: control de los médicos sobre el Hospital con lo que existe un gobierno participativ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ubsistema cultural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: se basa en una cultura Dionisio-mercad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ubsistema estructural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: existe una formalización coercitiva baja y una estandarización endógen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ubsistema de recursos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: adquisición de los conocimientos fuera del hospita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403280" y="1916280"/>
            <a:ext cx="7416720" cy="4105080"/>
          </a:xfrm>
          <a:custGeom>
            <a:avLst/>
            <a:gdLst>
              <a:gd name="textAreaLeft" fmla="*/ 483480 w 7416720"/>
              <a:gd name="textAreaRight" fmla="*/ 6933240 w 7416720"/>
              <a:gd name="textAreaTop" fmla="*/ 483480 h 4105080"/>
              <a:gd name="textAreaBottom" fmla="*/ 3621600 h 4105080"/>
            </a:gdLst>
            <a:ahLst/>
            <a:rect l="textAreaLeft" t="textAreaTop" r="textAreaRight" b="textAreaBottom"/>
            <a:pathLst>
              <a:path w="3902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5424" y="21600"/>
                </a:lnTo>
                <a:arcTo wR="3600" hR="3600" stAng="10800000" swAng="5400000"/>
                <a:lnTo>
                  <a:pt x="39024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5 CuadroTexto"/>
          <p:cNvSpPr/>
          <p:nvPr/>
        </p:nvSpPr>
        <p:spPr>
          <a:xfrm>
            <a:off x="2054520" y="530064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Número de puestos: 3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WordArt 206"/>
          <p:cNvSpPr txBox="1"/>
          <p:nvPr/>
        </p:nvSpPr>
        <p:spPr>
          <a:xfrm>
            <a:off x="1908000" y="692280"/>
            <a:ext cx="6694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419" name="3 CuadroTexto"/>
          <p:cNvSpPr/>
          <p:nvPr/>
        </p:nvSpPr>
        <p:spPr>
          <a:xfrm>
            <a:off x="2088000" y="213372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Número de niveles: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4 CuadroTexto"/>
          <p:cNvSpPr/>
          <p:nvPr/>
        </p:nvSpPr>
        <p:spPr>
          <a:xfrm>
            <a:off x="2039760" y="2708280"/>
            <a:ext cx="663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pan control directo del director: 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pan control directo del gerente: 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pan control directo del Responsable departamento medico :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pan control de subdirección : 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pan control de oftalmólogos :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3 CuadroTexto"/>
          <p:cNvSpPr/>
          <p:nvPr/>
        </p:nvSpPr>
        <p:spPr>
          <a:xfrm>
            <a:off x="2352960" y="114300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CRITERIO DE DEPARTAMENTALIZACIÓ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FUNCIONAL O POR PROCES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4 CuadroTexto"/>
          <p:cNvSpPr/>
          <p:nvPr/>
        </p:nvSpPr>
        <p:spPr>
          <a:xfrm>
            <a:off x="1835280" y="2276640"/>
            <a:ext cx="7002360" cy="39344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e caracteriza por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stimula la sana competencia y la promoción entre especialist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Favorece la especializac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Supervisión por semejant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Interrelación entre  profesional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lto margen de autonomía con bastantes departamentos de apoyo pa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respaldar la actividad desarrollad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WordArt 206"/>
          <p:cNvSpPr txBox="1"/>
          <p:nvPr/>
        </p:nvSpPr>
        <p:spPr>
          <a:xfrm>
            <a:off x="1619280" y="260280"/>
            <a:ext cx="6694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332000" y="1700280"/>
            <a:ext cx="7632720" cy="4608360"/>
          </a:xfrm>
          <a:custGeom>
            <a:avLst/>
            <a:gdLst>
              <a:gd name="textAreaLeft" fmla="*/ 542880 w 7632720"/>
              <a:gd name="textAreaRight" fmla="*/ 7089840 w 7632720"/>
              <a:gd name="textAreaTop" fmla="*/ 542880 h 4608360"/>
              <a:gd name="textAreaBottom" fmla="*/ 4065480 h 4608360"/>
            </a:gdLst>
            <a:ahLst/>
            <a:rect l="textAreaLeft" t="textAreaTop" r="textAreaRight" b="textAreaBottom"/>
            <a:pathLst>
              <a:path w="3577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2174" y="21600"/>
                </a:lnTo>
                <a:arcTo wR="3600" hR="3600" stAng="10800000" swAng="5400000"/>
                <a:lnTo>
                  <a:pt x="35774" y="3600"/>
                </a:lnTo>
                <a:arcTo wR="3600" hR="3600" stAng="5400000" swAng="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2 CuadroTexto"/>
          <p:cNvSpPr/>
          <p:nvPr/>
        </p:nvSpPr>
        <p:spPr>
          <a:xfrm>
            <a:off x="1692360" y="2214720"/>
            <a:ext cx="7286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xiste una descentralización porque los médicos y trabajadores toman decisiones sobre muchos ámbitos que no sólo abarcan a su propio trabaj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a pirámide de autoridad se encuentra invertida, es decir, el personal operativo y los puestos de naturaleza profesional tienen un gran influencia en la toma de decisiones de la organizac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También existe una estandarización endógena ya que los médicos han aprendido dicho conocimiento en otros centros como por ejemplo la universida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WordArt 206"/>
          <p:cNvSpPr txBox="1"/>
          <p:nvPr/>
        </p:nvSpPr>
        <p:spPr>
          <a:xfrm>
            <a:off x="1692360" y="333360"/>
            <a:ext cx="6694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763640" y="1341360"/>
            <a:ext cx="6912000" cy="5040360"/>
          </a:xfrm>
          <a:prstGeom prst="flowChartPredefinedProcess">
            <a:avLst/>
          </a:prstGeom>
          <a:noFill/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1 CuadroTexto"/>
          <p:cNvSpPr/>
          <p:nvPr/>
        </p:nvSpPr>
        <p:spPr>
          <a:xfrm rot="10800000">
            <a:off x="1619280" y="2244240"/>
            <a:ext cx="1033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Arial"/>
              </a:rPr>
              <a:t>Burocrac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Arial"/>
              </a:rPr>
              <a:t>permis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2 Abrir llave"/>
          <p:cNvSpPr/>
          <p:nvPr/>
        </p:nvSpPr>
        <p:spPr>
          <a:xfrm>
            <a:off x="2916360" y="1590840"/>
            <a:ext cx="714240" cy="414324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4143240"/>
              <a:gd name="textAreaBottom" fmla="*/ 4124880 h 414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3 CuadroTexto"/>
          <p:cNvSpPr/>
          <p:nvPr/>
        </p:nvSpPr>
        <p:spPr>
          <a:xfrm>
            <a:off x="3419640" y="1986120"/>
            <a:ext cx="507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utocontrol: los médicos se basan en la responsabilidad individua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Interacción: se necesita a todos lo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mpleados para resolver los problemas existent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Asesoramient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Énfasis en los objetiv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Existen pocas normas regulador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WordArt 206"/>
          <p:cNvSpPr txBox="1"/>
          <p:nvPr/>
        </p:nvSpPr>
        <p:spPr>
          <a:xfrm>
            <a:off x="1763640" y="260280"/>
            <a:ext cx="6694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708360" y="1268280"/>
            <a:ext cx="4105440" cy="2890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0035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2 CuadroTexto"/>
          <p:cNvSpPr/>
          <p:nvPr/>
        </p:nvSpPr>
        <p:spPr>
          <a:xfrm>
            <a:off x="1547640" y="1197000"/>
            <a:ext cx="7345440" cy="5022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TÍTULO DEL PUESTO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  <a:ea typeface="Arial"/>
              </a:rPr>
              <a:t>Coordinadora de Auxiliares IO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RESPONSABILIDAD PERSONAL ANTE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El Gerente, el Director médico y los Médic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UNIDAD DIRECTAMENTE SUBORDINADA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Auxiliar de Admisión, Gestión de citas, Gestión de teléfono y Gestoría de usuari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FUNCIÓN ESPECÍFICA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Su misión principal es que el personal y los medios para atender a los pacientes estén siempre coordinados y en orden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ACTIVIDADES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Revisar las consultas, el horario de los médico y auxiliarles del día siguiente. Además, se encarga de atender a las personas a su cargo en cualquier duda o dificultad así como poner en marcha cambios en las normas a seguir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RELACIONES INTERNAS Y EXTERNAS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La coordinadora de auxiliares IOA tiene relaciones externas con compañías aseguradoras, mutua de accidente, laboratorios, otros hospitales y otros médicos externos, principalmente. Colabora con las personas que tiene a su cargo y además colabora con el coordinador de quirófano y  con el colaborador del hospital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ASPECTOS MÁS DUROS Y SATISFACTORIOS: </a:t>
            </a:r>
            <a:r>
              <a:rPr b="0" lang="es-ES" sz="1600" spc="-1" strike="noStrike">
                <a:solidFill>
                  <a:srgbClr val="eaeaea"/>
                </a:solidFill>
                <a:latin typeface="Arial"/>
                <a:ea typeface="Arial"/>
              </a:rPr>
              <a:t>el aspecto más duro podría ser el hecho de tener que corregir en algunas ocasiones actuaciones o actitudes y sobretodo no poder tener un contacto directo con el paciente. En general, el ambiente de trabajo es agradable y distendi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WordArt 206"/>
          <p:cNvSpPr txBox="1"/>
          <p:nvPr/>
        </p:nvSpPr>
        <p:spPr>
          <a:xfrm>
            <a:off x="1693800" y="260280"/>
            <a:ext cx="6694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Sylfaen"/>
              </a:rPr>
              <a:t>ANÁLISIS DE LA ESTRUCTURA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21:18:30Z</dcterms:created>
  <dc:creator>elo y lourdes</dc:creator>
  <dc:description/>
  <cp:keywords/>
  <dc:language>en-US</dc:language>
  <cp:lastModifiedBy>elo y lourdes</cp:lastModifiedBy>
  <dcterms:modified xsi:type="dcterms:W3CDTF">2009-05-25T23:06:14Z</dcterms:modified>
  <cp:revision>1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83082</vt:lpwstr>
  </property>
</Properties>
</file>